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283-3725-472C-8397-2FAED3F0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03FB-3B80-49BE-9141-5B961A8C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317-12D5-4CB2-B2DB-789E1A8B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D563-7221-4F77-AD0C-BC3892D3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D53-336A-4535-9D21-EF165731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78DA-FE0D-4331-B797-92700766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1FED-719F-426B-BA5B-CE0D58DD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24D-4BE0-4E1D-A37D-DA5136C5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C274-CB98-4450-8762-AD38B558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A4AB-B31F-41DF-AC41-9B6359FD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519-982F-4091-A4F6-B1104339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F202-5249-4061-A61B-A27CCC8E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A452-8522-49C9-877F-44A7176C9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  chado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o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O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6/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ridge,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1523880"/>
            <a:ext cx="340344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w and improve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09680" y="236232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V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16720" y="6032520"/>
            <a:ext cx="261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vid Emm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yBase - Harv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mert@morgan.harvard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436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439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442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445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448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451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454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455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459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191120" y="228600"/>
            <a:ext cx="4647600" cy="6400800"/>
            <a:chOff x="4191120" y="228600"/>
            <a:chExt cx="4647600" cy="6400800"/>
          </a:xfrm>
        </p:grpSpPr>
        <p:sp>
          <p:nvSpPr>
            <p:cNvPr id="463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4191120" y="228600"/>
              <a:ext cx="4647600" cy="6400800"/>
              <a:chOff x="4191120" y="228600"/>
              <a:chExt cx="4647600" cy="640080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5486760" y="1371600"/>
                <a:ext cx="914040" cy="1523880"/>
                <a:chOff x="5486760" y="1371600"/>
                <a:chExt cx="914040" cy="152388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009120" y="137160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009120" y="2895480"/>
                  <a:ext cx="391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5486760" y="1371600"/>
                  <a:ext cx="522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4191120" y="5867280"/>
                <a:ext cx="1827000" cy="533520"/>
                <a:chOff x="4191120" y="5867280"/>
                <a:chExt cx="1827000" cy="5335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4191120" y="586728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191120" y="6400800"/>
                  <a:ext cx="182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6019920" y="5486400"/>
                <a:ext cx="2818800" cy="1143000"/>
                <a:chOff x="6019920" y="5486400"/>
                <a:chExt cx="2818800" cy="114300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6019920" y="5486400"/>
                  <a:ext cx="2818800" cy="114300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cvterm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vterm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019920" y="5486400"/>
                  <a:ext cx="2818800" cy="19692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cvter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8153280" y="2743920"/>
                <a:ext cx="380880" cy="2742480"/>
                <a:chOff x="8153280" y="2743920"/>
                <a:chExt cx="380880" cy="2742480"/>
              </a:xfrm>
            </p:grpSpPr>
            <p:sp>
              <p:nvSpPr>
                <p:cNvPr id="476" name=""/>
                <p:cNvSpPr/>
                <p:nvPr/>
              </p:nvSpPr>
              <p:spPr>
                <a:xfrm flipV="1">
                  <a:off x="8534160" y="2743920"/>
                  <a:ext cx="0" cy="2742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8153280" y="274392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4572000" y="3277080"/>
                <a:ext cx="1827000" cy="1371240"/>
                <a:chOff x="4572000" y="3277080"/>
                <a:chExt cx="1827000" cy="1371240"/>
              </a:xfrm>
            </p:grpSpPr>
            <p:sp>
              <p:nvSpPr>
                <p:cNvPr id="479" name=""/>
                <p:cNvSpPr/>
                <p:nvPr/>
              </p:nvSpPr>
              <p:spPr>
                <a:xfrm flipV="1">
                  <a:off x="4572000" y="3277080"/>
                  <a:ext cx="0" cy="137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572000" y="3277080"/>
                  <a:ext cx="182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4876920" y="3733920"/>
                <a:ext cx="1522440" cy="914400"/>
                <a:chOff x="4876920" y="3733920"/>
                <a:chExt cx="1522440" cy="914400"/>
              </a:xfrm>
            </p:grpSpPr>
            <p:sp>
              <p:nvSpPr>
                <p:cNvPr id="482" name=""/>
                <p:cNvSpPr/>
                <p:nvPr/>
              </p:nvSpPr>
              <p:spPr>
                <a:xfrm flipV="1">
                  <a:off x="4876920" y="3733920"/>
                  <a:ext cx="0" cy="9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876920" y="3733920"/>
                  <a:ext cx="1522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5105520" y="3962160"/>
                <a:ext cx="1293840" cy="685800"/>
                <a:chOff x="5105520" y="3962160"/>
                <a:chExt cx="1293840" cy="685800"/>
              </a:xfrm>
            </p:grpSpPr>
            <p:sp>
              <p:nvSpPr>
                <p:cNvPr id="485" name=""/>
                <p:cNvSpPr/>
                <p:nvPr/>
              </p:nvSpPr>
              <p:spPr>
                <a:xfrm flipV="1">
                  <a:off x="5105520" y="396216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105520" y="3962160"/>
                  <a:ext cx="1293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6400800" y="1828800"/>
                <a:ext cx="1752480" cy="2209680"/>
                <a:chOff x="6400800" y="1828800"/>
                <a:chExt cx="1752480" cy="22096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6400800" y="1828800"/>
                  <a:ext cx="1752480" cy="220968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contex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bxref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observable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ttr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alu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value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ssay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400800" y="1828800"/>
                  <a:ext cx="1752480" cy="38088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267080" y="3048120"/>
                <a:ext cx="2131560" cy="1599840"/>
                <a:chOff x="4267080" y="3048120"/>
                <a:chExt cx="2131560" cy="1599840"/>
              </a:xfrm>
            </p:grpSpPr>
            <p:sp>
              <p:nvSpPr>
                <p:cNvPr id="491" name=""/>
                <p:cNvSpPr/>
                <p:nvPr/>
              </p:nvSpPr>
              <p:spPr>
                <a:xfrm flipV="1">
                  <a:off x="4267080" y="3048120"/>
                  <a:ext cx="0" cy="159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267080" y="3048120"/>
                  <a:ext cx="213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6553080" y="4038120"/>
                <a:ext cx="1295640" cy="381600"/>
                <a:chOff x="6553080" y="4038120"/>
                <a:chExt cx="1295640" cy="381600"/>
              </a:xfrm>
            </p:grpSpPr>
            <p:grpSp>
              <p:nvGrpSpPr>
                <p:cNvPr id="494" name=""/>
                <p:cNvGrpSpPr/>
                <p:nvPr/>
              </p:nvGrpSpPr>
              <p:grpSpPr>
                <a:xfrm>
                  <a:off x="6553080" y="4038480"/>
                  <a:ext cx="1294200" cy="381240"/>
                  <a:chOff x="6553080" y="4038480"/>
                  <a:chExt cx="1294200" cy="38124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6553080" y="4038480"/>
                    <a:ext cx="0" cy="38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6553080" y="4419720"/>
                    <a:ext cx="1294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7" name=""/>
                <p:cNvSpPr/>
                <p:nvPr/>
              </p:nvSpPr>
              <p:spPr>
                <a:xfrm flipV="1">
                  <a:off x="7848720" y="403812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>
                <a:off x="6324480" y="4419720"/>
                <a:ext cx="1752840" cy="533160"/>
              </a:xfrm>
              <a:prstGeom prst="rect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lationshi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9" name=""/>
              <p:cNvGrpSpPr/>
              <p:nvPr/>
            </p:nvGrpSpPr>
            <p:grpSpPr>
              <a:xfrm>
                <a:off x="6477120" y="228600"/>
                <a:ext cx="1752480" cy="1143000"/>
                <a:chOff x="6477120" y="228600"/>
                <a:chExt cx="1752480" cy="114300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6477120" y="228600"/>
                  <a:ext cx="1752480" cy="114300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desc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contex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477120" y="228600"/>
                  <a:ext cx="1752480" cy="19656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de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 flipH="1">
                <a:off x="5486400" y="838080"/>
                <a:ext cx="99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380880" y="228600"/>
            <a:ext cx="3581640" cy="4723920"/>
            <a:chOff x="380880" y="228600"/>
            <a:chExt cx="3581640" cy="4723920"/>
          </a:xfrm>
        </p:grpSpPr>
        <p:grpSp>
          <p:nvGrpSpPr>
            <p:cNvPr id="504" name=""/>
            <p:cNvGrpSpPr/>
            <p:nvPr/>
          </p:nvGrpSpPr>
          <p:grpSpPr>
            <a:xfrm>
              <a:off x="380880" y="228600"/>
              <a:ext cx="1600200" cy="1219320"/>
              <a:chOff x="380880" y="228600"/>
              <a:chExt cx="1600200" cy="1219320"/>
            </a:xfrm>
          </p:grpSpPr>
          <p:sp>
            <p:nvSpPr>
              <p:cNvPr id="505" name=""/>
              <p:cNvSpPr/>
              <p:nvPr/>
            </p:nvSpPr>
            <p:spPr>
              <a:xfrm>
                <a:off x="380880" y="228600"/>
                <a:ext cx="1600200" cy="121932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0880" y="228600"/>
                <a:ext cx="1600200" cy="20988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1219320" y="1981080"/>
              <a:ext cx="1904400" cy="2209680"/>
              <a:chOff x="1219320" y="1981080"/>
              <a:chExt cx="1904400" cy="2209680"/>
            </a:xfrm>
          </p:grpSpPr>
          <p:sp>
            <p:nvSpPr>
              <p:cNvPr id="508" name=""/>
              <p:cNvSpPr/>
              <p:nvPr/>
            </p:nvSpPr>
            <p:spPr>
              <a:xfrm>
                <a:off x="1219320" y="1981080"/>
                <a:ext cx="190440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hromosom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219320" y="1981080"/>
                <a:ext cx="190440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_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914400" y="1447920"/>
              <a:ext cx="304920" cy="1371240"/>
              <a:chOff x="914400" y="1447920"/>
              <a:chExt cx="304920" cy="1371240"/>
            </a:xfrm>
          </p:grpSpPr>
          <p:sp>
            <p:nvSpPr>
              <p:cNvPr id="511" name=""/>
              <p:cNvSpPr/>
              <p:nvPr/>
            </p:nvSpPr>
            <p:spPr>
              <a:xfrm>
                <a:off x="914400" y="1447920"/>
                <a:ext cx="0" cy="137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14400" y="28191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685800" y="1447920"/>
              <a:ext cx="533160" cy="1828440"/>
              <a:chOff x="685800" y="1447920"/>
              <a:chExt cx="533160" cy="1828440"/>
            </a:xfrm>
          </p:grpSpPr>
          <p:sp>
            <p:nvSpPr>
              <p:cNvPr id="514" name=""/>
              <p:cNvSpPr/>
              <p:nvPr/>
            </p:nvSpPr>
            <p:spPr>
              <a:xfrm>
                <a:off x="685800" y="1447920"/>
                <a:ext cx="0" cy="182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85800" y="327636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609480" y="3962520"/>
              <a:ext cx="3353040" cy="990000"/>
              <a:chOff x="609480" y="3962520"/>
              <a:chExt cx="3353040" cy="99000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610200" y="3963600"/>
                <a:ext cx="3352320" cy="988920"/>
                <a:chOff x="610200" y="3963600"/>
                <a:chExt cx="3352320" cy="988920"/>
              </a:xfrm>
            </p:grpSpPr>
            <p:sp>
              <p:nvSpPr>
                <p:cNvPr id="518" name=""/>
                <p:cNvSpPr/>
                <p:nvPr/>
              </p:nvSpPr>
              <p:spPr>
                <a:xfrm flipH="1">
                  <a:off x="610200" y="4952520"/>
                  <a:ext cx="3352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610200" y="3963600"/>
                  <a:ext cx="0" cy="9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609480" y="396252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3123720" y="838080"/>
              <a:ext cx="533880" cy="2286000"/>
              <a:chOff x="3123720" y="838080"/>
              <a:chExt cx="533880" cy="2286000"/>
            </a:xfrm>
          </p:grpSpPr>
          <p:sp>
            <p:nvSpPr>
              <p:cNvPr id="522" name=""/>
              <p:cNvSpPr/>
              <p:nvPr/>
            </p:nvSpPr>
            <p:spPr>
              <a:xfrm>
                <a:off x="3352680" y="83808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3123720" y="31240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352680" y="8380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5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526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527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530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534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538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541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544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547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553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556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559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5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568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"/>
          <p:cNvGrpSpPr/>
          <p:nvPr/>
        </p:nvGrpSpPr>
        <p:grpSpPr>
          <a:xfrm>
            <a:off x="3657600" y="457200"/>
            <a:ext cx="5142960" cy="6400800"/>
            <a:chOff x="3657600" y="457200"/>
            <a:chExt cx="5142960" cy="6400800"/>
          </a:xfrm>
        </p:grpSpPr>
        <p:grpSp>
          <p:nvGrpSpPr>
            <p:cNvPr id="572" name=""/>
            <p:cNvGrpSpPr/>
            <p:nvPr/>
          </p:nvGrpSpPr>
          <p:grpSpPr>
            <a:xfrm>
              <a:off x="3886200" y="4876920"/>
              <a:ext cx="1295280" cy="1218960"/>
              <a:chOff x="3886200" y="4876920"/>
              <a:chExt cx="1295280" cy="1218960"/>
            </a:xfrm>
          </p:grpSpPr>
          <p:sp>
            <p:nvSpPr>
              <p:cNvPr id="573" name=""/>
              <p:cNvSpPr/>
              <p:nvPr/>
            </p:nvSpPr>
            <p:spPr>
              <a:xfrm>
                <a:off x="3886200" y="48769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86200" y="48769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657600" y="457200"/>
              <a:ext cx="1752480" cy="1485720"/>
              <a:chOff x="3657600" y="457200"/>
              <a:chExt cx="1752480" cy="1485720"/>
            </a:xfrm>
          </p:grpSpPr>
          <p:sp>
            <p:nvSpPr>
              <p:cNvPr id="576" name=""/>
              <p:cNvSpPr/>
              <p:nvPr/>
            </p:nvSpPr>
            <p:spPr>
              <a:xfrm>
                <a:off x="3657600" y="4572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657600" y="4572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 flipH="1">
              <a:off x="5142960" y="51055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5448600" y="1600200"/>
              <a:ext cx="914040" cy="1523880"/>
              <a:chOff x="5448600" y="1600200"/>
              <a:chExt cx="914040" cy="1523880"/>
            </a:xfrm>
          </p:grpSpPr>
          <p:sp>
            <p:nvSpPr>
              <p:cNvPr id="580" name=""/>
              <p:cNvSpPr/>
              <p:nvPr/>
            </p:nvSpPr>
            <p:spPr>
              <a:xfrm>
                <a:off x="5970960" y="16002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970960" y="31240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5448600" y="16002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152960" y="6095880"/>
              <a:ext cx="1827000" cy="533520"/>
              <a:chOff x="4152960" y="6095880"/>
              <a:chExt cx="1827000" cy="533520"/>
            </a:xfrm>
          </p:grpSpPr>
          <p:sp>
            <p:nvSpPr>
              <p:cNvPr id="584" name=""/>
              <p:cNvSpPr/>
              <p:nvPr/>
            </p:nvSpPr>
            <p:spPr>
              <a:xfrm>
                <a:off x="4152960" y="60958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152960" y="66294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981760" y="5715000"/>
              <a:ext cx="2818800" cy="1143000"/>
              <a:chOff x="5981760" y="5715000"/>
              <a:chExt cx="2818800" cy="1143000"/>
            </a:xfrm>
          </p:grpSpPr>
          <p:sp>
            <p:nvSpPr>
              <p:cNvPr id="587" name=""/>
              <p:cNvSpPr/>
              <p:nvPr/>
            </p:nvSpPr>
            <p:spPr>
              <a:xfrm>
                <a:off x="5981760" y="57150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981760" y="57150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115120" y="2972520"/>
              <a:ext cx="380880" cy="2742480"/>
              <a:chOff x="8115120" y="2972520"/>
              <a:chExt cx="380880" cy="2742480"/>
            </a:xfrm>
          </p:grpSpPr>
          <p:sp>
            <p:nvSpPr>
              <p:cNvPr id="590" name=""/>
              <p:cNvSpPr/>
              <p:nvPr/>
            </p:nvSpPr>
            <p:spPr>
              <a:xfrm flipV="1">
                <a:off x="8496000" y="29725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8115120" y="29725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4533840" y="3505680"/>
              <a:ext cx="1827000" cy="1371240"/>
              <a:chOff x="4533840" y="3505680"/>
              <a:chExt cx="1827000" cy="1371240"/>
            </a:xfrm>
          </p:grpSpPr>
          <p:sp>
            <p:nvSpPr>
              <p:cNvPr id="593" name=""/>
              <p:cNvSpPr/>
              <p:nvPr/>
            </p:nvSpPr>
            <p:spPr>
              <a:xfrm flipV="1">
                <a:off x="4533840" y="35056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533840" y="35056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838760" y="3962520"/>
              <a:ext cx="1522440" cy="914400"/>
              <a:chOff x="4838760" y="3962520"/>
              <a:chExt cx="1522440" cy="914400"/>
            </a:xfrm>
          </p:grpSpPr>
          <p:sp>
            <p:nvSpPr>
              <p:cNvPr id="596" name=""/>
              <p:cNvSpPr/>
              <p:nvPr/>
            </p:nvSpPr>
            <p:spPr>
              <a:xfrm flipV="1">
                <a:off x="4838760" y="39625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838760" y="39625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5067360" y="4190760"/>
              <a:ext cx="1293840" cy="685800"/>
              <a:chOff x="5067360" y="4190760"/>
              <a:chExt cx="1293840" cy="685800"/>
            </a:xfrm>
          </p:grpSpPr>
          <p:sp>
            <p:nvSpPr>
              <p:cNvPr id="599" name=""/>
              <p:cNvSpPr/>
              <p:nvPr/>
            </p:nvSpPr>
            <p:spPr>
              <a:xfrm flipV="1">
                <a:off x="5067360" y="41907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067360" y="41907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6362640" y="2057400"/>
              <a:ext cx="1752480" cy="2209680"/>
              <a:chOff x="6362640" y="2057400"/>
              <a:chExt cx="1752480" cy="2209680"/>
            </a:xfrm>
          </p:grpSpPr>
          <p:sp>
            <p:nvSpPr>
              <p:cNvPr id="602" name=""/>
              <p:cNvSpPr/>
              <p:nvPr/>
            </p:nvSpPr>
            <p:spPr>
              <a:xfrm>
                <a:off x="6362640" y="20574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362640" y="20574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4228920" y="3276720"/>
              <a:ext cx="2131560" cy="1599840"/>
              <a:chOff x="4228920" y="3276720"/>
              <a:chExt cx="2131560" cy="1599840"/>
            </a:xfrm>
          </p:grpSpPr>
          <p:sp>
            <p:nvSpPr>
              <p:cNvPr id="605" name=""/>
              <p:cNvSpPr/>
              <p:nvPr/>
            </p:nvSpPr>
            <p:spPr>
              <a:xfrm flipV="1">
                <a:off x="4228920" y="32767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228920" y="32767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6514920" y="4266720"/>
              <a:ext cx="1295640" cy="381600"/>
              <a:chOff x="6514920" y="4266720"/>
              <a:chExt cx="1295640" cy="38160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6514920" y="4267080"/>
                <a:ext cx="1294200" cy="381240"/>
                <a:chOff x="6514920" y="4267080"/>
                <a:chExt cx="1294200" cy="38124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6514920" y="42670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6514920" y="46483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 flipV="1">
                <a:off x="7810560" y="42667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6286320" y="46483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6438960" y="457200"/>
              <a:ext cx="1752480" cy="1143000"/>
              <a:chOff x="6438960" y="457200"/>
              <a:chExt cx="1752480" cy="1143000"/>
            </a:xfrm>
          </p:grpSpPr>
          <p:sp>
            <p:nvSpPr>
              <p:cNvPr id="614" name=""/>
              <p:cNvSpPr/>
              <p:nvPr/>
            </p:nvSpPr>
            <p:spPr>
              <a:xfrm>
                <a:off x="6438960" y="4572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438960" y="4572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 flipH="1">
              <a:off x="5448240" y="10666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0" y="2514600"/>
            <a:ext cx="8153280" cy="2133720"/>
            <a:chOff x="0" y="2514600"/>
            <a:chExt cx="8153280" cy="2133720"/>
          </a:xfrm>
        </p:grpSpPr>
        <p:sp>
          <p:nvSpPr>
            <p:cNvPr id="618" name=""/>
            <p:cNvSpPr/>
            <p:nvPr/>
          </p:nvSpPr>
          <p:spPr>
            <a:xfrm>
              <a:off x="6400800" y="3124080"/>
              <a:ext cx="1752480" cy="914400"/>
            </a:xfrm>
            <a:prstGeom prst="rect">
              <a:avLst/>
            </a:prstGeom>
            <a:noFill/>
            <a:ln w="69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0" y="2514600"/>
              <a:ext cx="2819520" cy="2133720"/>
            </a:xfrm>
            <a:prstGeom prst="rect">
              <a:avLst/>
            </a:prstGeom>
            <a:solidFill>
              <a:srgbClr val="ffff00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bservable_id: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g.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v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ttr_id: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g.  leth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alue_id: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g. domin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0" name=""/>
            <p:cNvCxnSpPr>
              <a:stCxn id="619" idx="3"/>
              <a:endCxn id="618" idx="1"/>
            </p:cNvCxnSpPr>
            <p:nvPr/>
          </p:nvCxnSpPr>
          <p:spPr>
            <a:xfrm>
              <a:off x="2819160" y="3580920"/>
              <a:ext cx="3547080" cy="1080"/>
            </a:xfrm>
            <a:prstGeom prst="straightConnector1">
              <a:avLst/>
            </a:prstGeom>
            <a:ln w="66600">
              <a:solidFill>
                <a:srgbClr val="ffff00"/>
              </a:solidFill>
              <a:miter/>
            </a:ln>
          </p:spPr>
        </p:cxn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622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623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626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630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634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637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640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643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646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649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652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655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658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664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-88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2819520"/>
            <a:ext cx="1676520" cy="6094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4292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-88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ghtless | domi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0" name=""/>
          <p:cNvCxnSpPr>
            <a:stCxn id="667" idx="4"/>
            <a:endCxn id="668" idx="0"/>
          </p:cNvCxnSpPr>
          <p:nvPr/>
        </p:nvCxnSpPr>
        <p:spPr>
          <a:xfrm flipH="1" rot="16200000">
            <a:off x="1389600" y="2457360"/>
            <a:ext cx="68652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71" name=""/>
          <p:cNvSpPr/>
          <p:nvPr/>
        </p:nvSpPr>
        <p:spPr>
          <a:xfrm>
            <a:off x="22860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ghtless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66688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minant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68" idx="3"/>
            <a:endCxn id="671" idx="0"/>
          </p:cNvCxnSpPr>
          <p:nvPr/>
        </p:nvCxnSpPr>
        <p:spPr>
          <a:xfrm rot="5400000">
            <a:off x="230400" y="3794400"/>
            <a:ext cx="1384920" cy="47556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68" idx="5"/>
            <a:endCxn id="672" idx="0"/>
          </p:cNvCxnSpPr>
          <p:nvPr/>
        </p:nvCxnSpPr>
        <p:spPr>
          <a:xfrm flipH="1" rot="16200000">
            <a:off x="2041200" y="3642120"/>
            <a:ext cx="1384920" cy="78012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532440" y="3657600"/>
            <a:ext cx="6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r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37200" y="36576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valu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678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679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682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686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690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696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699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702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705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708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711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714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7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720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-spe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g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90720" y="2514600"/>
            <a:ext cx="1447560" cy="91440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0"/>
            <a:ext cx="4292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-spe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g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hal | larval | rece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52280" y="5181480"/>
            <a:ext cx="3353040" cy="685800"/>
            <a:chOff x="152280" y="5181480"/>
            <a:chExt cx="3353040" cy="685800"/>
          </a:xfrm>
        </p:grpSpPr>
        <p:sp>
          <p:nvSpPr>
            <p:cNvPr id="727" name=""/>
            <p:cNvSpPr/>
            <p:nvPr/>
          </p:nvSpPr>
          <p:spPr>
            <a:xfrm>
              <a:off x="152280" y="5181480"/>
              <a:ext cx="91440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ethal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371600" y="5181480"/>
              <a:ext cx="91440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val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590920" y="5181480"/>
              <a:ext cx="91440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essive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09480" y="3886200"/>
            <a:ext cx="450000" cy="773280"/>
            <a:chOff x="609480" y="3886200"/>
            <a:chExt cx="450000" cy="773280"/>
          </a:xfrm>
        </p:grpSpPr>
        <p:grpSp>
          <p:nvGrpSpPr>
            <p:cNvPr id="731" name=""/>
            <p:cNvGrpSpPr/>
            <p:nvPr/>
          </p:nvGrpSpPr>
          <p:grpSpPr>
            <a:xfrm>
              <a:off x="609480" y="3886200"/>
              <a:ext cx="447840" cy="773280"/>
              <a:chOff x="609480" y="3886200"/>
              <a:chExt cx="447840" cy="773280"/>
            </a:xfrm>
          </p:grpSpPr>
          <p:sp>
            <p:nvSpPr>
              <p:cNvPr id="732" name=""/>
              <p:cNvSpPr/>
              <p:nvPr/>
            </p:nvSpPr>
            <p:spPr>
              <a:xfrm>
                <a:off x="609480" y="3886200"/>
                <a:ext cx="44784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609480" y="4272840"/>
                <a:ext cx="44784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610560" y="3962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523880" y="3886200"/>
            <a:ext cx="450000" cy="773280"/>
            <a:chOff x="1523880" y="3886200"/>
            <a:chExt cx="450000" cy="773280"/>
          </a:xfrm>
        </p:grpSpPr>
        <p:grpSp>
          <p:nvGrpSpPr>
            <p:cNvPr id="736" name=""/>
            <p:cNvGrpSpPr/>
            <p:nvPr/>
          </p:nvGrpSpPr>
          <p:grpSpPr>
            <a:xfrm>
              <a:off x="1523880" y="3886200"/>
              <a:ext cx="447840" cy="773280"/>
              <a:chOff x="1523880" y="3886200"/>
              <a:chExt cx="447840" cy="773280"/>
            </a:xfrm>
          </p:grpSpPr>
          <p:sp>
            <p:nvSpPr>
              <p:cNvPr id="737" name=""/>
              <p:cNvSpPr/>
              <p:nvPr/>
            </p:nvSpPr>
            <p:spPr>
              <a:xfrm>
                <a:off x="1523880" y="3886200"/>
                <a:ext cx="44784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1523880" y="4272840"/>
                <a:ext cx="44784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1524960" y="3962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2514600" y="3886200"/>
            <a:ext cx="449640" cy="773280"/>
            <a:chOff x="2514600" y="3886200"/>
            <a:chExt cx="449640" cy="773280"/>
          </a:xfrm>
        </p:grpSpPr>
        <p:grpSp>
          <p:nvGrpSpPr>
            <p:cNvPr id="741" name=""/>
            <p:cNvGrpSpPr/>
            <p:nvPr/>
          </p:nvGrpSpPr>
          <p:grpSpPr>
            <a:xfrm>
              <a:off x="2514600" y="3886200"/>
              <a:ext cx="447480" cy="773280"/>
              <a:chOff x="2514600" y="3886200"/>
              <a:chExt cx="447480" cy="773280"/>
            </a:xfrm>
          </p:grpSpPr>
          <p:sp>
            <p:nvSpPr>
              <p:cNvPr id="742" name=""/>
              <p:cNvSpPr/>
              <p:nvPr/>
            </p:nvSpPr>
            <p:spPr>
              <a:xfrm>
                <a:off x="2514600" y="388620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2514600" y="427284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2515320" y="3962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5" name=""/>
          <p:cNvCxnSpPr>
            <a:stCxn id="723" idx="4"/>
            <a:endCxn id="724" idx="0"/>
          </p:cNvCxnSpPr>
          <p:nvPr/>
        </p:nvCxnSpPr>
        <p:spPr>
          <a:xfrm flipV="1" rot="10800000">
            <a:off x="1713960" y="2133360"/>
            <a:ext cx="1080" cy="3816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6" name=""/>
          <p:cNvCxnSpPr>
            <a:stCxn id="724" idx="3"/>
            <a:endCxn id="732" idx="0"/>
          </p:cNvCxnSpPr>
          <p:nvPr/>
        </p:nvCxnSpPr>
        <p:spPr>
          <a:xfrm rot="5400000">
            <a:off x="722520" y="3405960"/>
            <a:ext cx="591120" cy="370800"/>
          </a:xfrm>
          <a:prstGeom prst="curvedConnector5">
            <a:avLst>
              <a:gd name="adj1" fmla="val 61243"/>
              <a:gd name="adj2" fmla="val 49951"/>
              <a:gd name="adj3" fmla="val 612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7" name=""/>
          <p:cNvCxnSpPr>
            <a:stCxn id="724" idx="4"/>
            <a:endCxn id="737" idx="0"/>
          </p:cNvCxnSpPr>
          <p:nvPr/>
        </p:nvCxnSpPr>
        <p:spPr>
          <a:xfrm flipH="1" rot="16200000">
            <a:off x="1502640" y="3640680"/>
            <a:ext cx="457920" cy="33840"/>
          </a:xfrm>
          <a:prstGeom prst="curvedConnector5">
            <a:avLst>
              <a:gd name="adj1" fmla="val 49960"/>
              <a:gd name="adj2" fmla="val 49462"/>
              <a:gd name="adj3" fmla="val 499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24" idx="5"/>
            <a:endCxn id="744" idx="0"/>
          </p:cNvCxnSpPr>
          <p:nvPr/>
        </p:nvCxnSpPr>
        <p:spPr>
          <a:xfrm flipH="1" rot="16200000">
            <a:off x="2148480" y="3371760"/>
            <a:ext cx="667440" cy="515160"/>
          </a:xfrm>
          <a:prstGeom prst="curvedConnector5">
            <a:avLst>
              <a:gd name="adj1" fmla="val 59956"/>
              <a:gd name="adj2" fmla="val 50000"/>
              <a:gd name="adj3" fmla="val 599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9" name=""/>
          <p:cNvSpPr/>
          <p:nvPr/>
        </p:nvSpPr>
        <p:spPr>
          <a:xfrm>
            <a:off x="837720" y="373392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752120" y="373392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742840" y="373392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33" idx="0"/>
            <a:endCxn id="727" idx="0"/>
          </p:cNvCxnSpPr>
          <p:nvPr/>
        </p:nvCxnSpPr>
        <p:spPr>
          <a:xfrm rot="5400000">
            <a:off x="459720" y="4809960"/>
            <a:ext cx="521280" cy="223200"/>
          </a:xfrm>
          <a:prstGeom prst="curvedConnector5">
            <a:avLst>
              <a:gd name="adj1" fmla="val 49689"/>
              <a:gd name="adj2" fmla="val 49919"/>
              <a:gd name="adj3" fmla="val 496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3" name=""/>
          <p:cNvCxnSpPr>
            <a:stCxn id="738" idx="0"/>
            <a:endCxn id="728" idx="0"/>
          </p:cNvCxnSpPr>
          <p:nvPr/>
        </p:nvCxnSpPr>
        <p:spPr>
          <a:xfrm flipH="1" rot="16200000">
            <a:off x="1526400" y="4879800"/>
            <a:ext cx="521280" cy="83160"/>
          </a:xfrm>
          <a:prstGeom prst="curvedConnector5">
            <a:avLst>
              <a:gd name="adj1" fmla="val 49689"/>
              <a:gd name="adj2" fmla="val 50000"/>
              <a:gd name="adj3" fmla="val 496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4" name=""/>
          <p:cNvCxnSpPr>
            <a:stCxn id="743" idx="0"/>
            <a:endCxn id="729" idx="0"/>
          </p:cNvCxnSpPr>
          <p:nvPr/>
        </p:nvCxnSpPr>
        <p:spPr>
          <a:xfrm flipH="1" rot="16200000">
            <a:off x="2630880" y="4765320"/>
            <a:ext cx="521280" cy="311760"/>
          </a:xfrm>
          <a:prstGeom prst="curvedConnector5">
            <a:avLst>
              <a:gd name="adj1" fmla="val 49689"/>
              <a:gd name="adj2" fmla="val 49942"/>
              <a:gd name="adj3" fmla="val 49689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756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757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760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764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768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771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774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777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780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783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786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789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798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-spe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g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914400" y="2819520"/>
            <a:ext cx="1676520" cy="6094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0"/>
            <a:ext cx="4292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-spe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g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hal | larval | rece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4" name=""/>
          <p:cNvCxnSpPr>
            <a:stCxn id="801" idx="4"/>
            <a:endCxn id="802" idx="0"/>
          </p:cNvCxnSpPr>
          <p:nvPr/>
        </p:nvCxnSpPr>
        <p:spPr>
          <a:xfrm flipH="1" rot="16200000">
            <a:off x="1389600" y="2457360"/>
            <a:ext cx="68652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805" name=""/>
          <p:cNvGrpSpPr/>
          <p:nvPr/>
        </p:nvGrpSpPr>
        <p:grpSpPr>
          <a:xfrm>
            <a:off x="228600" y="4724280"/>
            <a:ext cx="3352320" cy="685800"/>
            <a:chOff x="228600" y="4724280"/>
            <a:chExt cx="3352320" cy="685800"/>
          </a:xfrm>
        </p:grpSpPr>
        <p:sp>
          <p:nvSpPr>
            <p:cNvPr id="806" name=""/>
            <p:cNvSpPr/>
            <p:nvPr/>
          </p:nvSpPr>
          <p:spPr>
            <a:xfrm>
              <a:off x="228600" y="4724280"/>
              <a:ext cx="91404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ethal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7560" y="4724280"/>
              <a:ext cx="91404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val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66880" y="4724280"/>
              <a:ext cx="91404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essive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802" idx="3"/>
            <a:endCxn id="806" idx="0"/>
          </p:cNvCxnSpPr>
          <p:nvPr/>
        </p:nvCxnSpPr>
        <p:spPr>
          <a:xfrm rot="5400000">
            <a:off x="230400" y="3794400"/>
            <a:ext cx="1384920" cy="47556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0" name=""/>
          <p:cNvCxnSpPr>
            <a:stCxn id="802" idx="4"/>
            <a:endCxn id="807" idx="0"/>
          </p:cNvCxnSpPr>
          <p:nvPr/>
        </p:nvCxnSpPr>
        <p:spPr>
          <a:xfrm flipH="1" rot="16200000">
            <a:off x="1181160" y="3999960"/>
            <a:ext cx="1296000" cy="153360"/>
          </a:xfrm>
          <a:prstGeom prst="curvedConnector5">
            <a:avLst>
              <a:gd name="adj1" fmla="val 49986"/>
              <a:gd name="adj2" fmla="val 49882"/>
              <a:gd name="adj3" fmla="val 499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1" name=""/>
          <p:cNvCxnSpPr>
            <a:stCxn id="802" idx="5"/>
            <a:endCxn id="808" idx="0"/>
          </p:cNvCxnSpPr>
          <p:nvPr/>
        </p:nvCxnSpPr>
        <p:spPr>
          <a:xfrm flipH="1" rot="16200000">
            <a:off x="2041200" y="3642120"/>
            <a:ext cx="1384920" cy="78012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12" name=""/>
          <p:cNvSpPr/>
          <p:nvPr/>
        </p:nvSpPr>
        <p:spPr>
          <a:xfrm>
            <a:off x="988200" y="434340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abl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32440" y="3657600"/>
            <a:ext cx="6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r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437200" y="36576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valu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816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817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820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824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828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831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834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837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840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843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846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849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852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5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7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858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Tub6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om-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14400" y="2819520"/>
            <a:ext cx="1676520" cy="6094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0"/>
            <a:ext cx="429264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Tub6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om-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thal | embryonic | dominant |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ernal effect | conditional 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861" idx="4"/>
            <a:endCxn id="862" idx="0"/>
          </p:cNvCxnSpPr>
          <p:nvPr/>
        </p:nvCxnSpPr>
        <p:spPr>
          <a:xfrm flipH="1" rot="16200000">
            <a:off x="1389600" y="2457360"/>
            <a:ext cx="68652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65" name=""/>
          <p:cNvSpPr/>
          <p:nvPr/>
        </p:nvSpPr>
        <p:spPr>
          <a:xfrm>
            <a:off x="22860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hal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4792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ryonic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6688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minant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8" name=""/>
          <p:cNvCxnSpPr>
            <a:stCxn id="862" idx="3"/>
            <a:endCxn id="865" idx="0"/>
          </p:cNvCxnSpPr>
          <p:nvPr/>
        </p:nvCxnSpPr>
        <p:spPr>
          <a:xfrm rot="5400000">
            <a:off x="230400" y="3794400"/>
            <a:ext cx="1384920" cy="47556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9" name=""/>
          <p:cNvCxnSpPr>
            <a:stCxn id="862" idx="4"/>
            <a:endCxn id="866" idx="0"/>
          </p:cNvCxnSpPr>
          <p:nvPr/>
        </p:nvCxnSpPr>
        <p:spPr>
          <a:xfrm flipH="1" rot="16200000">
            <a:off x="1181160" y="3999960"/>
            <a:ext cx="1296000" cy="153360"/>
          </a:xfrm>
          <a:prstGeom prst="curvedConnector5">
            <a:avLst>
              <a:gd name="adj1" fmla="val 49986"/>
              <a:gd name="adj2" fmla="val 49882"/>
              <a:gd name="adj3" fmla="val 499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0" name=""/>
          <p:cNvCxnSpPr>
            <a:stCxn id="862" idx="5"/>
            <a:endCxn id="867" idx="0"/>
          </p:cNvCxnSpPr>
          <p:nvPr/>
        </p:nvCxnSpPr>
        <p:spPr>
          <a:xfrm flipH="1" rot="16200000">
            <a:off x="2041200" y="3642120"/>
            <a:ext cx="1384920" cy="78012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1522800" y="419112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2440" y="3657600"/>
            <a:ext cx="6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r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437200" y="36576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valu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4" name=""/>
          <p:cNvCxnSpPr>
            <a:stCxn id="862" idx="3"/>
            <a:endCxn id="875" idx="0"/>
          </p:cNvCxnSpPr>
          <p:nvPr/>
        </p:nvCxnSpPr>
        <p:spPr>
          <a:xfrm flipH="1" rot="16200000">
            <a:off x="191160" y="4308840"/>
            <a:ext cx="1994760" cy="56160"/>
          </a:xfrm>
          <a:prstGeom prst="curvedConnector5">
            <a:avLst>
              <a:gd name="adj1" fmla="val 52220"/>
              <a:gd name="adj2" fmla="val 49677"/>
              <a:gd name="adj3" fmla="val 5222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62" idx="5"/>
            <a:endCxn id="877" idx="0"/>
          </p:cNvCxnSpPr>
          <p:nvPr/>
        </p:nvCxnSpPr>
        <p:spPr>
          <a:xfrm flipH="1" rot="16200000">
            <a:off x="1429560" y="4253400"/>
            <a:ext cx="1994760" cy="167040"/>
          </a:xfrm>
          <a:prstGeom prst="curvedConnector5">
            <a:avLst>
              <a:gd name="adj1" fmla="val 52220"/>
              <a:gd name="adj2" fmla="val 49892"/>
              <a:gd name="adj3" fmla="val 5222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8" name=""/>
          <p:cNvSpPr/>
          <p:nvPr/>
        </p:nvSpPr>
        <p:spPr>
          <a:xfrm>
            <a:off x="0" y="6172200"/>
            <a:ext cx="1752480" cy="4572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nal effect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57400" y="6172200"/>
            <a:ext cx="1752480" cy="4572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cs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0" name=""/>
          <p:cNvCxnSpPr>
            <a:stCxn id="881" idx="0"/>
            <a:endCxn id="878" idx="7"/>
          </p:cNvCxnSpPr>
          <p:nvPr/>
        </p:nvCxnSpPr>
        <p:spPr>
          <a:xfrm flipH="1" rot="16200000">
            <a:off x="1249920" y="5994000"/>
            <a:ext cx="207000" cy="283320"/>
          </a:xfrm>
          <a:prstGeom prst="curvedConnector5">
            <a:avLst>
              <a:gd name="adj1" fmla="val 32926"/>
              <a:gd name="adj2" fmla="val 50000"/>
              <a:gd name="adj3" fmla="val 32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2" name=""/>
          <p:cNvCxnSpPr>
            <a:stCxn id="883" idx="0"/>
            <a:endCxn id="879" idx="1"/>
          </p:cNvCxnSpPr>
          <p:nvPr/>
        </p:nvCxnSpPr>
        <p:spPr>
          <a:xfrm rot="5400000">
            <a:off x="2307600" y="6038640"/>
            <a:ext cx="207000" cy="194400"/>
          </a:xfrm>
          <a:prstGeom prst="curvedConnector5">
            <a:avLst>
              <a:gd name="adj1" fmla="val 32926"/>
              <a:gd name="adj2" fmla="val 49907"/>
              <a:gd name="adj3" fmla="val 32926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884" name=""/>
          <p:cNvGrpSpPr/>
          <p:nvPr/>
        </p:nvGrpSpPr>
        <p:grpSpPr>
          <a:xfrm>
            <a:off x="990720" y="5257800"/>
            <a:ext cx="449640" cy="773280"/>
            <a:chOff x="990720" y="5257800"/>
            <a:chExt cx="449640" cy="773280"/>
          </a:xfrm>
        </p:grpSpPr>
        <p:grpSp>
          <p:nvGrpSpPr>
            <p:cNvPr id="885" name=""/>
            <p:cNvGrpSpPr/>
            <p:nvPr/>
          </p:nvGrpSpPr>
          <p:grpSpPr>
            <a:xfrm>
              <a:off x="990720" y="5257800"/>
              <a:ext cx="447480" cy="773280"/>
              <a:chOff x="990720" y="5257800"/>
              <a:chExt cx="447480" cy="773280"/>
            </a:xfrm>
          </p:grpSpPr>
          <p:sp>
            <p:nvSpPr>
              <p:cNvPr id="886" name=""/>
              <p:cNvSpPr/>
              <p:nvPr/>
            </p:nvSpPr>
            <p:spPr>
              <a:xfrm>
                <a:off x="990720" y="525780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990720" y="564444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991440" y="53341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286000" y="5257800"/>
            <a:ext cx="449640" cy="773280"/>
            <a:chOff x="2286000" y="5257800"/>
            <a:chExt cx="449640" cy="773280"/>
          </a:xfrm>
        </p:grpSpPr>
        <p:grpSp>
          <p:nvGrpSpPr>
            <p:cNvPr id="888" name=""/>
            <p:cNvGrpSpPr/>
            <p:nvPr/>
          </p:nvGrpSpPr>
          <p:grpSpPr>
            <a:xfrm>
              <a:off x="2286000" y="5257800"/>
              <a:ext cx="447480" cy="773280"/>
              <a:chOff x="2286000" y="5257800"/>
              <a:chExt cx="447480" cy="773280"/>
            </a:xfrm>
          </p:grpSpPr>
          <p:sp>
            <p:nvSpPr>
              <p:cNvPr id="889" name=""/>
              <p:cNvSpPr/>
              <p:nvPr/>
            </p:nvSpPr>
            <p:spPr>
              <a:xfrm>
                <a:off x="2286000" y="525780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2286000" y="564444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2286720" y="53341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2590560" y="563868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294920" y="563868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893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894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897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9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901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905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908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911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914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917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920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923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926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929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2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935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Tub6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om-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914400" y="2819520"/>
            <a:ext cx="1676520" cy="6094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0"/>
            <a:ext cx="4292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Tub6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om-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manifest 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bryonic peripheral nervous system |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ernal eff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1" name=""/>
          <p:cNvCxnSpPr>
            <a:stCxn id="938" idx="4"/>
            <a:endCxn id="939" idx="0"/>
          </p:cNvCxnSpPr>
          <p:nvPr/>
        </p:nvCxnSpPr>
        <p:spPr>
          <a:xfrm flipH="1" rot="16200000">
            <a:off x="1389600" y="2457360"/>
            <a:ext cx="68652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2" name=""/>
          <p:cNvSpPr/>
          <p:nvPr/>
        </p:nvSpPr>
        <p:spPr>
          <a:xfrm>
            <a:off x="685800" y="457200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ryonic periphe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rvous system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3" name=""/>
          <p:cNvCxnSpPr>
            <a:stCxn id="939" idx="3"/>
            <a:endCxn id="942" idx="0"/>
          </p:cNvCxnSpPr>
          <p:nvPr/>
        </p:nvCxnSpPr>
        <p:spPr>
          <a:xfrm rot="5400000">
            <a:off x="535320" y="3947040"/>
            <a:ext cx="1232280" cy="18360"/>
          </a:xfrm>
          <a:prstGeom prst="curvedConnector5">
            <a:avLst>
              <a:gd name="adj1" fmla="val 53594"/>
              <a:gd name="adj2" fmla="val 50000"/>
              <a:gd name="adj3" fmla="val 5359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4" name=""/>
          <p:cNvSpPr/>
          <p:nvPr/>
        </p:nvSpPr>
        <p:spPr>
          <a:xfrm>
            <a:off x="226080" y="388620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abl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endCxn id="946" idx="0"/>
          </p:cNvCxnSpPr>
          <p:nvPr/>
        </p:nvCxnSpPr>
        <p:spPr>
          <a:xfrm flipH="1" rot="16200000">
            <a:off x="2283480" y="3506760"/>
            <a:ext cx="534240" cy="37836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1905120" y="5486400"/>
            <a:ext cx="1752480" cy="4572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nal effect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9" idx="0"/>
            <a:endCxn id="947" idx="0"/>
          </p:cNvCxnSpPr>
          <p:nvPr/>
        </p:nvCxnSpPr>
        <p:spPr>
          <a:xfrm flipH="1" rot="16200000">
            <a:off x="2346120" y="5050800"/>
            <a:ext cx="826200" cy="45360"/>
          </a:xfrm>
          <a:prstGeom prst="curvedConnector5">
            <a:avLst>
              <a:gd name="adj1" fmla="val 49782"/>
              <a:gd name="adj2" fmla="val 49600"/>
              <a:gd name="adj3" fmla="val 4978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50" name=""/>
          <p:cNvGrpSpPr/>
          <p:nvPr/>
        </p:nvGrpSpPr>
        <p:grpSpPr>
          <a:xfrm>
            <a:off x="2514600" y="3886200"/>
            <a:ext cx="449640" cy="773280"/>
            <a:chOff x="2514600" y="3886200"/>
            <a:chExt cx="449640" cy="773280"/>
          </a:xfrm>
        </p:grpSpPr>
        <p:grpSp>
          <p:nvGrpSpPr>
            <p:cNvPr id="951" name=""/>
            <p:cNvGrpSpPr/>
            <p:nvPr/>
          </p:nvGrpSpPr>
          <p:grpSpPr>
            <a:xfrm>
              <a:off x="2514600" y="3886200"/>
              <a:ext cx="447480" cy="773280"/>
              <a:chOff x="2514600" y="3886200"/>
              <a:chExt cx="447480" cy="773280"/>
            </a:xfrm>
          </p:grpSpPr>
          <p:sp>
            <p:nvSpPr>
              <p:cNvPr id="952" name=""/>
              <p:cNvSpPr/>
              <p:nvPr/>
            </p:nvSpPr>
            <p:spPr>
              <a:xfrm>
                <a:off x="2514600" y="388620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V="1">
                <a:off x="2514600" y="427284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6" name=""/>
            <p:cNvSpPr/>
            <p:nvPr/>
          </p:nvSpPr>
          <p:spPr>
            <a:xfrm>
              <a:off x="2515320" y="3962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"/>
          <p:cNvSpPr/>
          <p:nvPr/>
        </p:nvSpPr>
        <p:spPr>
          <a:xfrm>
            <a:off x="2742840" y="434340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955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956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959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963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967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970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973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976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979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982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985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988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997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9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0" y="0"/>
            <a:ext cx="42926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heterozygous phenotype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BX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fa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FO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vi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457200" y="1600200"/>
            <a:ext cx="2666880" cy="4952880"/>
            <a:chOff x="457200" y="1600200"/>
            <a:chExt cx="2666880" cy="4952880"/>
          </a:xfrm>
        </p:grpSpPr>
        <p:sp>
          <p:nvSpPr>
            <p:cNvPr id="1002" name=""/>
            <p:cNvSpPr/>
            <p:nvPr/>
          </p:nvSpPr>
          <p:spPr>
            <a:xfrm>
              <a:off x="1143000" y="2971800"/>
              <a:ext cx="1447920" cy="762120"/>
            </a:xfrm>
            <a:prstGeom prst="ellipse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f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BX3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/faf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FO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066680" y="4419720"/>
              <a:ext cx="1676520" cy="609480"/>
            </a:xfrm>
            <a:prstGeom prst="ellipse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hen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4" name=""/>
            <p:cNvCxnSpPr>
              <a:stCxn id="1002" idx="4"/>
              <a:endCxn id="1003" idx="0"/>
            </p:cNvCxnSpPr>
            <p:nvPr/>
          </p:nvCxnSpPr>
          <p:spPr>
            <a:xfrm flipH="1" rot="16200000">
              <a:off x="1542960" y="4057200"/>
              <a:ext cx="686520" cy="38880"/>
            </a:xfrm>
            <a:prstGeom prst="curvedConnector5">
              <a:avLst>
                <a:gd name="adj1" fmla="val 50000"/>
                <a:gd name="adj2" fmla="val 49532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5" name=""/>
            <p:cNvSpPr/>
            <p:nvPr/>
          </p:nvSpPr>
          <p:spPr>
            <a:xfrm>
              <a:off x="838080" y="5867280"/>
              <a:ext cx="91440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sible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6" name=""/>
            <p:cNvCxnSpPr>
              <a:stCxn id="1003" idx="4"/>
              <a:endCxn id="1005" idx="0"/>
            </p:cNvCxnSpPr>
            <p:nvPr/>
          </p:nvCxnSpPr>
          <p:spPr>
            <a:xfrm rot="5400000">
              <a:off x="1180440" y="5143320"/>
              <a:ext cx="838800" cy="610560"/>
            </a:xfrm>
            <a:prstGeom prst="curvedConnector5">
              <a:avLst>
                <a:gd name="adj1" fmla="val 49978"/>
                <a:gd name="adj2" fmla="val 49970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7" name=""/>
            <p:cNvSpPr/>
            <p:nvPr/>
          </p:nvSpPr>
          <p:spPr>
            <a:xfrm>
              <a:off x="837000" y="5334120"/>
              <a:ext cx="65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57200" y="1600200"/>
              <a:ext cx="914400" cy="53352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BX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209680" y="1600200"/>
              <a:ext cx="914400" cy="53352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FO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0" name=""/>
            <p:cNvCxnSpPr>
              <a:stCxn id="1008" idx="4"/>
              <a:endCxn id="1002" idx="0"/>
            </p:cNvCxnSpPr>
            <p:nvPr/>
          </p:nvCxnSpPr>
          <p:spPr>
            <a:xfrm flipH="1" rot="16200000">
              <a:off x="971640" y="2076120"/>
              <a:ext cx="838800" cy="953280"/>
            </a:xfrm>
            <a:prstGeom prst="curvedConnector5">
              <a:avLst>
                <a:gd name="adj1" fmla="val 49978"/>
                <a:gd name="adj2" fmla="val 49981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1" name=""/>
            <p:cNvCxnSpPr>
              <a:stCxn id="1009" idx="4"/>
              <a:endCxn id="1002" idx="0"/>
            </p:cNvCxnSpPr>
            <p:nvPr/>
          </p:nvCxnSpPr>
          <p:spPr>
            <a:xfrm rot="5400000">
              <a:off x="1847160" y="2152800"/>
              <a:ext cx="838800" cy="800640"/>
            </a:xfrm>
            <a:prstGeom prst="curvedConnector5">
              <a:avLst>
                <a:gd name="adj1" fmla="val 49978"/>
                <a:gd name="adj2" fmla="val 49977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1013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1014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1017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9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1021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1025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1028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1031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1034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1037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1040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1043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1046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1049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1050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1055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7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3695760" y="1676520"/>
            <a:ext cx="1752480" cy="2971800"/>
            <a:chOff x="3695760" y="1676520"/>
            <a:chExt cx="1752480" cy="2971800"/>
          </a:xfrm>
        </p:grpSpPr>
        <p:sp>
          <p:nvSpPr>
            <p:cNvPr id="1059" name=""/>
            <p:cNvSpPr/>
            <p:nvPr/>
          </p:nvSpPr>
          <p:spPr>
            <a:xfrm>
              <a:off x="3695760" y="2133720"/>
              <a:ext cx="175248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0" name=""/>
            <p:cNvGrpSpPr/>
            <p:nvPr/>
          </p:nvGrpSpPr>
          <p:grpSpPr>
            <a:xfrm>
              <a:off x="3886200" y="1676520"/>
              <a:ext cx="1295280" cy="457200"/>
              <a:chOff x="3886200" y="1676520"/>
              <a:chExt cx="1295280" cy="457200"/>
            </a:xfrm>
          </p:grpSpPr>
          <p:grpSp>
            <p:nvGrpSpPr>
              <p:cNvPr id="1061" name=""/>
              <p:cNvGrpSpPr/>
              <p:nvPr/>
            </p:nvGrpSpPr>
            <p:grpSpPr>
              <a:xfrm>
                <a:off x="3886200" y="1676520"/>
                <a:ext cx="1293840" cy="457200"/>
                <a:chOff x="3886200" y="1676520"/>
                <a:chExt cx="1293840" cy="45720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3886200" y="16765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3886200" y="2133720"/>
                  <a:ext cx="12938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4" name=""/>
              <p:cNvSpPr/>
              <p:nvPr/>
            </p:nvSpPr>
            <p:spPr>
              <a:xfrm flipV="1">
                <a:off x="5181480" y="1676520"/>
                <a:ext cx="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3962520" y="2666880"/>
              <a:ext cx="0" cy="198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380880" y="228600"/>
            <a:ext cx="3581640" cy="4723920"/>
            <a:chOff x="380880" y="228600"/>
            <a:chExt cx="3581640" cy="4723920"/>
          </a:xfrm>
        </p:grpSpPr>
        <p:grpSp>
          <p:nvGrpSpPr>
            <p:cNvPr id="1067" name=""/>
            <p:cNvGrpSpPr/>
            <p:nvPr/>
          </p:nvGrpSpPr>
          <p:grpSpPr>
            <a:xfrm>
              <a:off x="380880" y="228600"/>
              <a:ext cx="1600200" cy="1219320"/>
              <a:chOff x="380880" y="228600"/>
              <a:chExt cx="1600200" cy="1219320"/>
            </a:xfrm>
          </p:grpSpPr>
          <p:sp>
            <p:nvSpPr>
              <p:cNvPr id="1068" name=""/>
              <p:cNvSpPr/>
              <p:nvPr/>
            </p:nvSpPr>
            <p:spPr>
              <a:xfrm>
                <a:off x="380880" y="228600"/>
                <a:ext cx="1600200" cy="121932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80880" y="228600"/>
                <a:ext cx="1600200" cy="20988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1219320" y="1981080"/>
              <a:ext cx="1904400" cy="2209680"/>
              <a:chOff x="1219320" y="1981080"/>
              <a:chExt cx="1904400" cy="2209680"/>
            </a:xfrm>
          </p:grpSpPr>
          <p:sp>
            <p:nvSpPr>
              <p:cNvPr id="1071" name=""/>
              <p:cNvSpPr/>
              <p:nvPr/>
            </p:nvSpPr>
            <p:spPr>
              <a:xfrm>
                <a:off x="1219320" y="1981080"/>
                <a:ext cx="190440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hromosom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219320" y="1981080"/>
                <a:ext cx="190440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_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914400" y="1447920"/>
              <a:ext cx="304920" cy="1371240"/>
              <a:chOff x="914400" y="1447920"/>
              <a:chExt cx="304920" cy="1371240"/>
            </a:xfrm>
          </p:grpSpPr>
          <p:sp>
            <p:nvSpPr>
              <p:cNvPr id="1074" name=""/>
              <p:cNvSpPr/>
              <p:nvPr/>
            </p:nvSpPr>
            <p:spPr>
              <a:xfrm>
                <a:off x="914400" y="1447920"/>
                <a:ext cx="0" cy="137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914400" y="28191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85800" y="1447920"/>
              <a:ext cx="533160" cy="1828440"/>
              <a:chOff x="685800" y="1447920"/>
              <a:chExt cx="533160" cy="1828440"/>
            </a:xfrm>
          </p:grpSpPr>
          <p:sp>
            <p:nvSpPr>
              <p:cNvPr id="1077" name=""/>
              <p:cNvSpPr/>
              <p:nvPr/>
            </p:nvSpPr>
            <p:spPr>
              <a:xfrm>
                <a:off x="685800" y="1447920"/>
                <a:ext cx="0" cy="182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85800" y="327636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609480" y="3962520"/>
              <a:ext cx="3353040" cy="990000"/>
              <a:chOff x="609480" y="3962520"/>
              <a:chExt cx="3353040" cy="990000"/>
            </a:xfrm>
          </p:grpSpPr>
          <p:grpSp>
            <p:nvGrpSpPr>
              <p:cNvPr id="1080" name=""/>
              <p:cNvGrpSpPr/>
              <p:nvPr/>
            </p:nvGrpSpPr>
            <p:grpSpPr>
              <a:xfrm>
                <a:off x="610200" y="3963600"/>
                <a:ext cx="3352320" cy="988920"/>
                <a:chOff x="610200" y="3963600"/>
                <a:chExt cx="3352320" cy="988920"/>
              </a:xfrm>
            </p:grpSpPr>
            <p:sp>
              <p:nvSpPr>
                <p:cNvPr id="1081" name=""/>
                <p:cNvSpPr/>
                <p:nvPr/>
              </p:nvSpPr>
              <p:spPr>
                <a:xfrm flipH="1">
                  <a:off x="610200" y="4952520"/>
                  <a:ext cx="3352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V="1">
                  <a:off x="610200" y="3963600"/>
                  <a:ext cx="0" cy="9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3" name=""/>
              <p:cNvSpPr/>
              <p:nvPr/>
            </p:nvSpPr>
            <p:spPr>
              <a:xfrm>
                <a:off x="609480" y="396252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3123720" y="838080"/>
              <a:ext cx="533880" cy="2286000"/>
              <a:chOff x="3123720" y="838080"/>
              <a:chExt cx="533880" cy="2286000"/>
            </a:xfrm>
          </p:grpSpPr>
          <p:sp>
            <p:nvSpPr>
              <p:cNvPr id="1085" name=""/>
              <p:cNvSpPr/>
              <p:nvPr/>
            </p:nvSpPr>
            <p:spPr>
              <a:xfrm>
                <a:off x="3352680" y="83808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>
                <a:off x="3123720" y="31240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352680" y="8380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8" name=""/>
          <p:cNvSpPr/>
          <p:nvPr/>
        </p:nvSpPr>
        <p:spPr>
          <a:xfrm>
            <a:off x="3695760" y="2133720"/>
            <a:ext cx="175248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96080" y="38088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bx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7480" y="5486400"/>
            <a:ext cx="914400" cy="9144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7" idx="7"/>
            <a:endCxn id="46" idx="4"/>
          </p:cNvCxnSpPr>
          <p:nvPr/>
        </p:nvCxnSpPr>
        <p:spPr>
          <a:xfrm flipH="1" flipV="1">
            <a:off x="8152560" y="1294920"/>
            <a:ext cx="96120" cy="4325040"/>
          </a:xfrm>
          <a:prstGeom prst="straightConnector1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219320" y="3808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9" idx="7"/>
            <a:endCxn id="46" idx="1"/>
          </p:cNvCxnSpPr>
          <p:nvPr/>
        </p:nvCxnSpPr>
        <p:spPr>
          <a:xfrm>
            <a:off x="1999800" y="514080"/>
            <a:ext cx="5829840" cy="1080"/>
          </a:xfrm>
          <a:prstGeom prst="straightConnector1">
            <a:avLst/>
          </a:prstGeom>
          <a:ln w="316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6400800" y="2057400"/>
            <a:ext cx="914400" cy="914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7"/>
            <a:endCxn id="46" idx="3"/>
          </p:cNvCxnSpPr>
          <p:nvPr/>
        </p:nvCxnSpPr>
        <p:spPr>
          <a:xfrm flipV="1">
            <a:off x="7181640" y="1161720"/>
            <a:ext cx="648360" cy="102888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143000" y="25146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3" idx="5"/>
            <a:endCxn id="47" idx="2"/>
          </p:cNvCxnSpPr>
          <p:nvPr/>
        </p:nvCxnSpPr>
        <p:spPr>
          <a:xfrm>
            <a:off x="1924200" y="3295440"/>
            <a:ext cx="5544000" cy="26485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1" idx="6"/>
            <a:endCxn id="47" idx="0"/>
          </p:cNvCxnSpPr>
          <p:nvPr/>
        </p:nvCxnSpPr>
        <p:spPr>
          <a:xfrm>
            <a:off x="7314840" y="2514240"/>
            <a:ext cx="610200" cy="297252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3" idx="7"/>
            <a:endCxn id="51" idx="1"/>
          </p:cNvCxnSpPr>
          <p:nvPr/>
        </p:nvCxnSpPr>
        <p:spPr>
          <a:xfrm flipV="1">
            <a:off x="1923840" y="2190240"/>
            <a:ext cx="4610520" cy="4579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3" idx="0"/>
            <a:endCxn id="46" idx="2"/>
          </p:cNvCxnSpPr>
          <p:nvPr/>
        </p:nvCxnSpPr>
        <p:spPr>
          <a:xfrm flipV="1">
            <a:off x="1599840" y="837360"/>
            <a:ext cx="6096600" cy="16772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3" idx="1"/>
            <a:endCxn id="49" idx="3"/>
          </p:cNvCxnSpPr>
          <p:nvPr/>
        </p:nvCxnSpPr>
        <p:spPr>
          <a:xfrm flipV="1">
            <a:off x="1276200" y="1161360"/>
            <a:ext cx="76680" cy="14864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33520" y="563868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59" idx="5"/>
          </p:cNvCxnSpPr>
          <p:nvPr/>
        </p:nvCxnSpPr>
        <p:spPr>
          <a:xfrm flipV="1">
            <a:off x="1314360" y="6343560"/>
            <a:ext cx="6492240" cy="766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9" idx="7"/>
            <a:endCxn id="53" idx="3"/>
          </p:cNvCxnSpPr>
          <p:nvPr/>
        </p:nvCxnSpPr>
        <p:spPr>
          <a:xfrm flipH="1" flipV="1">
            <a:off x="1275840" y="3295080"/>
            <a:ext cx="38880" cy="24771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5791320" y="365760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2" idx="5"/>
            <a:endCxn id="47" idx="1"/>
          </p:cNvCxnSpPr>
          <p:nvPr/>
        </p:nvCxnSpPr>
        <p:spPr>
          <a:xfrm>
            <a:off x="6572160" y="4438800"/>
            <a:ext cx="1029600" cy="11815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62" idx="7"/>
            <a:endCxn id="51" idx="3"/>
          </p:cNvCxnSpPr>
          <p:nvPr/>
        </p:nvCxnSpPr>
        <p:spPr>
          <a:xfrm flipH="1" flipV="1">
            <a:off x="6533640" y="2837880"/>
            <a:ext cx="38880" cy="9529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2"/>
            <a:endCxn id="53" idx="6"/>
          </p:cNvCxnSpPr>
          <p:nvPr/>
        </p:nvCxnSpPr>
        <p:spPr>
          <a:xfrm flipH="1" flipV="1">
            <a:off x="2057040" y="2971080"/>
            <a:ext cx="3734640" cy="11437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2514600" y="4572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6" idx="5"/>
            <a:endCxn id="47" idx="3"/>
          </p:cNvCxnSpPr>
          <p:nvPr/>
        </p:nvCxnSpPr>
        <p:spPr>
          <a:xfrm>
            <a:off x="3295440" y="5353200"/>
            <a:ext cx="4305960" cy="91512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6" idx="1"/>
            <a:endCxn id="53" idx="4"/>
          </p:cNvCxnSpPr>
          <p:nvPr/>
        </p:nvCxnSpPr>
        <p:spPr>
          <a:xfrm flipH="1" flipV="1">
            <a:off x="1599840" y="3428640"/>
            <a:ext cx="1048320" cy="127656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0"/>
            <a:endCxn id="51" idx="2"/>
          </p:cNvCxnSpPr>
          <p:nvPr/>
        </p:nvCxnSpPr>
        <p:spPr>
          <a:xfrm flipV="1">
            <a:off x="2971440" y="2514240"/>
            <a:ext cx="3429720" cy="205776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743200" y="8380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70" idx="6"/>
            <a:endCxn id="51" idx="0"/>
          </p:cNvCxnSpPr>
          <p:nvPr/>
        </p:nvCxnSpPr>
        <p:spPr>
          <a:xfrm>
            <a:off x="3657600" y="1294920"/>
            <a:ext cx="3201120" cy="762840"/>
          </a:xfrm>
          <a:prstGeom prst="straightConnector1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70" idx="3"/>
            <a:endCxn id="53" idx="0"/>
          </p:cNvCxnSpPr>
          <p:nvPr/>
        </p:nvCxnSpPr>
        <p:spPr>
          <a:xfrm flipH="1">
            <a:off x="1599840" y="1618920"/>
            <a:ext cx="1276560" cy="896040"/>
          </a:xfrm>
          <a:prstGeom prst="straightConnector1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 modul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89" name=""/>
          <p:cNvCxnSpPr>
            <a:stCxn id="1090" idx="2"/>
            <a:endCxn id="1091" idx="2"/>
          </p:cNvCxnSpPr>
          <p:nvPr/>
        </p:nvCxnSpPr>
        <p:spPr>
          <a:xfrm flipH="1" flipV="1" rot="5400000">
            <a:off x="5393160" y="2666520"/>
            <a:ext cx="73440" cy="2245320"/>
          </a:xfrm>
          <a:prstGeom prst="curvedConnector5">
            <a:avLst>
              <a:gd name="adj1" fmla="val -312807"/>
              <a:gd name="adj2" fmla="val 28351"/>
              <a:gd name="adj3" fmla="val -31280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2" name=""/>
          <p:cNvCxnSpPr>
            <a:stCxn id="1093" idx="6"/>
            <a:endCxn id="1090" idx="2"/>
          </p:cNvCxnSpPr>
          <p:nvPr/>
        </p:nvCxnSpPr>
        <p:spPr>
          <a:xfrm>
            <a:off x="2296800" y="3753000"/>
            <a:ext cx="2012040" cy="73440"/>
          </a:xfrm>
          <a:prstGeom prst="curvedConnector5">
            <a:avLst>
              <a:gd name="adj1" fmla="val 42448"/>
              <a:gd name="adj2" fmla="val 206403"/>
              <a:gd name="adj3" fmla="val 4244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4" name=""/>
          <p:cNvSpPr/>
          <p:nvPr/>
        </p:nvSpPr>
        <p:spPr>
          <a:xfrm>
            <a:off x="152280" y="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tic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 wing phenotype that is enhanced by dp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Base Curation for w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visible, enhanceable { dpp[1]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066680" y="3429000"/>
            <a:ext cx="1230480" cy="64764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974880" y="4757760"/>
            <a:ext cx="1425600" cy="5176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6" name=""/>
          <p:cNvCxnSpPr>
            <a:stCxn id="1093" idx="4"/>
            <a:endCxn id="1095" idx="0"/>
          </p:cNvCxnSpPr>
          <p:nvPr/>
        </p:nvCxnSpPr>
        <p:spPr>
          <a:xfrm flipH="1" rot="16200000">
            <a:off x="1344600" y="4414320"/>
            <a:ext cx="681840" cy="5760"/>
          </a:xfrm>
          <a:prstGeom prst="curvedConnector5">
            <a:avLst>
              <a:gd name="adj1" fmla="val 49867"/>
              <a:gd name="adj2" fmla="val 46666"/>
              <a:gd name="adj3" fmla="val 4986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7" name=""/>
          <p:cNvSpPr/>
          <p:nvPr/>
        </p:nvSpPr>
        <p:spPr>
          <a:xfrm>
            <a:off x="781200" y="5987880"/>
            <a:ext cx="777600" cy="58284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ible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8" name=""/>
          <p:cNvCxnSpPr>
            <a:stCxn id="1095" idx="4"/>
            <a:endCxn id="1097" idx="0"/>
          </p:cNvCxnSpPr>
          <p:nvPr/>
        </p:nvCxnSpPr>
        <p:spPr>
          <a:xfrm rot="5400000">
            <a:off x="1072080" y="5372280"/>
            <a:ext cx="712800" cy="518400"/>
          </a:xfrm>
          <a:prstGeom prst="curvedConnector5">
            <a:avLst>
              <a:gd name="adj1" fmla="val 49974"/>
              <a:gd name="adj2" fmla="val 49965"/>
              <a:gd name="adj3" fmla="val 49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9" name=""/>
          <p:cNvSpPr/>
          <p:nvPr/>
        </p:nvSpPr>
        <p:spPr>
          <a:xfrm>
            <a:off x="2969640" y="342900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gc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57200" y="2362320"/>
            <a:ext cx="777960" cy="45216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1" name=""/>
          <p:cNvCxnSpPr>
            <a:stCxn id="1100" idx="4"/>
            <a:endCxn id="1093" idx="0"/>
          </p:cNvCxnSpPr>
          <p:nvPr/>
        </p:nvCxnSpPr>
        <p:spPr>
          <a:xfrm flipH="1" rot="16200000">
            <a:off x="956880" y="2702880"/>
            <a:ext cx="615240" cy="837360"/>
          </a:xfrm>
          <a:prstGeom prst="curvedConnector5">
            <a:avLst>
              <a:gd name="adj1" fmla="val 49824"/>
              <a:gd name="adj2" fmla="val 49978"/>
              <a:gd name="adj3" fmla="val 498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1" name=""/>
          <p:cNvSpPr/>
          <p:nvPr/>
        </p:nvSpPr>
        <p:spPr>
          <a:xfrm>
            <a:off x="6553080" y="3429000"/>
            <a:ext cx="1230480" cy="64764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pp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418520" y="2263680"/>
            <a:ext cx="777600" cy="452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p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3" name=""/>
          <p:cNvCxnSpPr>
            <a:stCxn id="1102" idx="4"/>
            <a:endCxn id="1091" idx="0"/>
          </p:cNvCxnSpPr>
          <p:nvPr/>
        </p:nvCxnSpPr>
        <p:spPr>
          <a:xfrm rot="5400000">
            <a:off x="7130880" y="2753280"/>
            <a:ext cx="713520" cy="639000"/>
          </a:xfrm>
          <a:prstGeom prst="curvedConnector5">
            <a:avLst>
              <a:gd name="adj1" fmla="val 49873"/>
              <a:gd name="adj2" fmla="val 50000"/>
              <a:gd name="adj3" fmla="val 4987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04" name=""/>
          <p:cNvSpPr/>
          <p:nvPr/>
        </p:nvSpPr>
        <p:spPr>
          <a:xfrm>
            <a:off x="3962520" y="5257800"/>
            <a:ext cx="777600" cy="58248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s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3962520" y="3124080"/>
            <a:ext cx="825120" cy="1218600"/>
            <a:chOff x="3962520" y="3124080"/>
            <a:chExt cx="825120" cy="1218600"/>
          </a:xfrm>
        </p:grpSpPr>
        <p:grpSp>
          <p:nvGrpSpPr>
            <p:cNvPr id="1106" name=""/>
            <p:cNvGrpSpPr/>
            <p:nvPr/>
          </p:nvGrpSpPr>
          <p:grpSpPr>
            <a:xfrm>
              <a:off x="3962520" y="3124080"/>
              <a:ext cx="825120" cy="1218600"/>
              <a:chOff x="3962520" y="3124080"/>
              <a:chExt cx="825120" cy="1218600"/>
            </a:xfrm>
          </p:grpSpPr>
          <p:sp>
            <p:nvSpPr>
              <p:cNvPr id="1107" name=""/>
              <p:cNvSpPr/>
              <p:nvPr/>
            </p:nvSpPr>
            <p:spPr>
              <a:xfrm>
                <a:off x="3962520" y="3124080"/>
                <a:ext cx="825120" cy="60948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3962520" y="3732840"/>
                <a:ext cx="825120" cy="60948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0" name=""/>
            <p:cNvSpPr/>
            <p:nvPr/>
          </p:nvSpPr>
          <p:spPr>
            <a:xfrm>
              <a:off x="4007160" y="3244320"/>
              <a:ext cx="6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_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09" name=""/>
          <p:cNvCxnSpPr>
            <a:stCxn id="1104" idx="0"/>
            <a:endCxn id="1108" idx="0"/>
          </p:cNvCxnSpPr>
          <p:nvPr/>
        </p:nvCxnSpPr>
        <p:spPr>
          <a:xfrm flipH="1" flipV="1" rot="5400000">
            <a:off x="3904920" y="4789080"/>
            <a:ext cx="915120" cy="23040"/>
          </a:xfrm>
          <a:prstGeom prst="curvedConnector5">
            <a:avLst>
              <a:gd name="adj1" fmla="val 49980"/>
              <a:gd name="adj2" fmla="val 49206"/>
              <a:gd name="adj3" fmla="val 4998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10" name=""/>
          <p:cNvSpPr/>
          <p:nvPr/>
        </p:nvSpPr>
        <p:spPr>
          <a:xfrm>
            <a:off x="4874760" y="342900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jectgc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52280" y="0"/>
            <a:ext cx="8991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ing hapmap genotype data in 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hris Mungall and Mummi Thoris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veral hundred thousand human SNPs  (dbSNP rs#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x samples (Coriell cell li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enotypes for each of the 90 samples at a given SNP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457200" y="2743200"/>
            <a:ext cx="1828800" cy="1573200"/>
            <a:chOff x="457200" y="2743200"/>
            <a:chExt cx="1828800" cy="1573200"/>
          </a:xfrm>
        </p:grpSpPr>
        <p:sp>
          <p:nvSpPr>
            <p:cNvPr id="1113" name=""/>
            <p:cNvSpPr/>
            <p:nvPr/>
          </p:nvSpPr>
          <p:spPr>
            <a:xfrm>
              <a:off x="457200" y="27432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09480" y="28954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62120" y="30481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914400" y="32004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066680" y="33526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219320" y="35053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71600" y="36576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523880" y="38098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676520" y="39625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150120" y="22096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quence_var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2819520" y="3048120"/>
            <a:ext cx="304560" cy="380520"/>
            <a:chOff x="2819520" y="3048120"/>
            <a:chExt cx="304560" cy="380520"/>
          </a:xfrm>
        </p:grpSpPr>
        <p:sp>
          <p:nvSpPr>
            <p:cNvPr id="1124" name=""/>
            <p:cNvSpPr/>
            <p:nvPr/>
          </p:nvSpPr>
          <p:spPr>
            <a:xfrm>
              <a:off x="2819520" y="3048120"/>
              <a:ext cx="30456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2819520" y="3237840"/>
              <a:ext cx="30456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3124080" y="3429000"/>
            <a:ext cx="304920" cy="380520"/>
            <a:chOff x="3124080" y="3429000"/>
            <a:chExt cx="304920" cy="380520"/>
          </a:xfrm>
        </p:grpSpPr>
        <p:sp>
          <p:nvSpPr>
            <p:cNvPr id="1127" name=""/>
            <p:cNvSpPr/>
            <p:nvPr/>
          </p:nvSpPr>
          <p:spPr>
            <a:xfrm>
              <a:off x="3124080" y="342900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3124080" y="361872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276720" y="3886200"/>
            <a:ext cx="304560" cy="380520"/>
            <a:chOff x="3276720" y="3886200"/>
            <a:chExt cx="304560" cy="380520"/>
          </a:xfrm>
        </p:grpSpPr>
        <p:sp>
          <p:nvSpPr>
            <p:cNvPr id="1130" name=""/>
            <p:cNvSpPr/>
            <p:nvPr/>
          </p:nvSpPr>
          <p:spPr>
            <a:xfrm>
              <a:off x="3276720" y="388620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3276720" y="407592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819520" y="4800600"/>
            <a:ext cx="304560" cy="380520"/>
            <a:chOff x="2819520" y="4800600"/>
            <a:chExt cx="304560" cy="380520"/>
          </a:xfrm>
        </p:grpSpPr>
        <p:sp>
          <p:nvSpPr>
            <p:cNvPr id="1133" name=""/>
            <p:cNvSpPr/>
            <p:nvPr/>
          </p:nvSpPr>
          <p:spPr>
            <a:xfrm>
              <a:off x="2819520" y="480060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2819520" y="499032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3124080" y="4419720"/>
            <a:ext cx="304920" cy="380520"/>
            <a:chOff x="3124080" y="4419720"/>
            <a:chExt cx="304920" cy="380520"/>
          </a:xfrm>
        </p:grpSpPr>
        <p:sp>
          <p:nvSpPr>
            <p:cNvPr id="1136" name=""/>
            <p:cNvSpPr/>
            <p:nvPr/>
          </p:nvSpPr>
          <p:spPr>
            <a:xfrm>
              <a:off x="3124080" y="441972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3124080" y="460944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2973240" y="510552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509920" y="251460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n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0" name=""/>
          <p:cNvCxnSpPr>
            <a:stCxn id="1121" idx="6"/>
            <a:endCxn id="1125" idx="2"/>
          </p:cNvCxnSpPr>
          <p:nvPr/>
        </p:nvCxnSpPr>
        <p:spPr>
          <a:xfrm flipV="1">
            <a:off x="2286000" y="3237840"/>
            <a:ext cx="534240" cy="90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1" name=""/>
          <p:cNvCxnSpPr>
            <a:stCxn id="1121" idx="6"/>
            <a:endCxn id="1128" idx="2"/>
          </p:cNvCxnSpPr>
          <p:nvPr/>
        </p:nvCxnSpPr>
        <p:spPr>
          <a:xfrm flipV="1">
            <a:off x="2286000" y="3618720"/>
            <a:ext cx="838800" cy="52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2" name=""/>
          <p:cNvCxnSpPr>
            <a:stCxn id="1121" idx="6"/>
            <a:endCxn id="1131" idx="2"/>
          </p:cNvCxnSpPr>
          <p:nvPr/>
        </p:nvCxnSpPr>
        <p:spPr>
          <a:xfrm flipV="1">
            <a:off x="2286000" y="4075920"/>
            <a:ext cx="991440" cy="6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3" name=""/>
          <p:cNvCxnSpPr>
            <a:stCxn id="1121" idx="6"/>
            <a:endCxn id="1137" idx="2"/>
          </p:cNvCxnSpPr>
          <p:nvPr/>
        </p:nvCxnSpPr>
        <p:spPr>
          <a:xfrm>
            <a:off x="2286000" y="4140000"/>
            <a:ext cx="838800" cy="47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4" name=""/>
          <p:cNvCxnSpPr>
            <a:stCxn id="1121" idx="6"/>
            <a:endCxn id="1134" idx="2"/>
          </p:cNvCxnSpPr>
          <p:nvPr/>
        </p:nvCxnSpPr>
        <p:spPr>
          <a:xfrm>
            <a:off x="2286000" y="4140000"/>
            <a:ext cx="534240" cy="85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5" name=""/>
          <p:cNvSpPr/>
          <p:nvPr/>
        </p:nvSpPr>
        <p:spPr>
          <a:xfrm>
            <a:off x="5334120" y="2895480"/>
            <a:ext cx="1981080" cy="0"/>
          </a:xfrm>
          <a:prstGeom prst="line">
            <a:avLst/>
          </a:prstGeom>
          <a:ln w="54000">
            <a:solidFill>
              <a:srgbClr val="8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6" name=""/>
          <p:cNvCxnSpPr/>
          <p:nvPr/>
        </p:nvCxnSpPr>
        <p:spPr>
          <a:xfrm flipV="1">
            <a:off x="3124080" y="2932920"/>
            <a:ext cx="335520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7" name=""/>
          <p:cNvSpPr/>
          <p:nvPr/>
        </p:nvSpPr>
        <p:spPr>
          <a:xfrm>
            <a:off x="2437920" y="220968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637600" y="22096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romosome_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189320" y="281952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rcfeatur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3809880" y="3505320"/>
            <a:ext cx="3614400" cy="1981080"/>
            <a:chOff x="3809880" y="3505320"/>
            <a:chExt cx="3614400" cy="1981080"/>
          </a:xfrm>
        </p:grpSpPr>
        <p:sp>
          <p:nvSpPr>
            <p:cNvPr id="1151" name=""/>
            <p:cNvSpPr/>
            <p:nvPr/>
          </p:nvSpPr>
          <p:spPr>
            <a:xfrm>
              <a:off x="4334400" y="4191120"/>
              <a:ext cx="308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=1..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sidue_info = genotype_sequence or 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09880" y="3505320"/>
              <a:ext cx="304920" cy="19810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152280" y="0"/>
            <a:ext cx="8991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ing hapmap genotype data in 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hris Mungall and Mummi Thoris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veral hundred thousand human SNPs  (dbSNP rs#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x samples (Coriell cell li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enotypes for each of the 90 samples at a given SNP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457200" y="2743200"/>
            <a:ext cx="1828800" cy="1573200"/>
            <a:chOff x="457200" y="2743200"/>
            <a:chExt cx="1828800" cy="1573200"/>
          </a:xfrm>
        </p:grpSpPr>
        <p:sp>
          <p:nvSpPr>
            <p:cNvPr id="1155" name=""/>
            <p:cNvSpPr/>
            <p:nvPr/>
          </p:nvSpPr>
          <p:spPr>
            <a:xfrm>
              <a:off x="457200" y="27432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09480" y="28954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62120" y="30481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14400" y="32004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066680" y="33526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219320" y="35053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371600" y="36576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523880" y="38098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676520" y="39625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150120" y="22096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quence_var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2819520" y="3048120"/>
            <a:ext cx="304560" cy="380520"/>
            <a:chOff x="2819520" y="3048120"/>
            <a:chExt cx="304560" cy="380520"/>
          </a:xfrm>
        </p:grpSpPr>
        <p:sp>
          <p:nvSpPr>
            <p:cNvPr id="1166" name=""/>
            <p:cNvSpPr/>
            <p:nvPr/>
          </p:nvSpPr>
          <p:spPr>
            <a:xfrm>
              <a:off x="2819520" y="3048120"/>
              <a:ext cx="30456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2819520" y="3237840"/>
              <a:ext cx="30456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3124080" y="3429000"/>
            <a:ext cx="304920" cy="380520"/>
            <a:chOff x="3124080" y="3429000"/>
            <a:chExt cx="304920" cy="380520"/>
          </a:xfrm>
        </p:grpSpPr>
        <p:sp>
          <p:nvSpPr>
            <p:cNvPr id="1169" name=""/>
            <p:cNvSpPr/>
            <p:nvPr/>
          </p:nvSpPr>
          <p:spPr>
            <a:xfrm>
              <a:off x="3124080" y="342900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3124080" y="361872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3276720" y="3886200"/>
            <a:ext cx="304560" cy="380520"/>
            <a:chOff x="3276720" y="3886200"/>
            <a:chExt cx="304560" cy="380520"/>
          </a:xfrm>
        </p:grpSpPr>
        <p:sp>
          <p:nvSpPr>
            <p:cNvPr id="1172" name=""/>
            <p:cNvSpPr/>
            <p:nvPr/>
          </p:nvSpPr>
          <p:spPr>
            <a:xfrm>
              <a:off x="3276720" y="388620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3276720" y="407592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2819520" y="4800600"/>
            <a:ext cx="304560" cy="380520"/>
            <a:chOff x="2819520" y="4800600"/>
            <a:chExt cx="304560" cy="380520"/>
          </a:xfrm>
        </p:grpSpPr>
        <p:sp>
          <p:nvSpPr>
            <p:cNvPr id="1175" name=""/>
            <p:cNvSpPr/>
            <p:nvPr/>
          </p:nvSpPr>
          <p:spPr>
            <a:xfrm>
              <a:off x="2819520" y="480060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2819520" y="499032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3124080" y="4419720"/>
            <a:ext cx="304920" cy="380520"/>
            <a:chOff x="3124080" y="4419720"/>
            <a:chExt cx="304920" cy="380520"/>
          </a:xfrm>
        </p:grpSpPr>
        <p:sp>
          <p:nvSpPr>
            <p:cNvPr id="1178" name=""/>
            <p:cNvSpPr/>
            <p:nvPr/>
          </p:nvSpPr>
          <p:spPr>
            <a:xfrm>
              <a:off x="3124080" y="441972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3124080" y="460944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0" name=""/>
          <p:cNvSpPr/>
          <p:nvPr/>
        </p:nvSpPr>
        <p:spPr>
          <a:xfrm>
            <a:off x="2973240" y="510552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09920" y="251460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n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2" name=""/>
          <p:cNvCxnSpPr>
            <a:stCxn id="1163" idx="6"/>
            <a:endCxn id="1167" idx="2"/>
          </p:cNvCxnSpPr>
          <p:nvPr/>
        </p:nvCxnSpPr>
        <p:spPr>
          <a:xfrm flipV="1">
            <a:off x="2286000" y="3237840"/>
            <a:ext cx="534240" cy="90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3" name=""/>
          <p:cNvCxnSpPr>
            <a:stCxn id="1163" idx="6"/>
            <a:endCxn id="1170" idx="2"/>
          </p:cNvCxnSpPr>
          <p:nvPr/>
        </p:nvCxnSpPr>
        <p:spPr>
          <a:xfrm flipV="1">
            <a:off x="2286000" y="3618720"/>
            <a:ext cx="838800" cy="52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4" name=""/>
          <p:cNvCxnSpPr>
            <a:stCxn id="1163" idx="6"/>
            <a:endCxn id="1173" idx="2"/>
          </p:cNvCxnSpPr>
          <p:nvPr/>
        </p:nvCxnSpPr>
        <p:spPr>
          <a:xfrm flipV="1">
            <a:off x="2286000" y="4075920"/>
            <a:ext cx="991440" cy="6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5" name=""/>
          <p:cNvCxnSpPr>
            <a:stCxn id="1163" idx="6"/>
            <a:endCxn id="1179" idx="2"/>
          </p:cNvCxnSpPr>
          <p:nvPr/>
        </p:nvCxnSpPr>
        <p:spPr>
          <a:xfrm>
            <a:off x="2286000" y="4140000"/>
            <a:ext cx="838800" cy="47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6" name=""/>
          <p:cNvCxnSpPr>
            <a:stCxn id="1163" idx="6"/>
            <a:endCxn id="1176" idx="2"/>
          </p:cNvCxnSpPr>
          <p:nvPr/>
        </p:nvCxnSpPr>
        <p:spPr>
          <a:xfrm>
            <a:off x="2286000" y="4140000"/>
            <a:ext cx="534240" cy="85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7" name=""/>
          <p:cNvSpPr/>
          <p:nvPr/>
        </p:nvSpPr>
        <p:spPr>
          <a:xfrm>
            <a:off x="5334120" y="2895480"/>
            <a:ext cx="1981080" cy="0"/>
          </a:xfrm>
          <a:prstGeom prst="line">
            <a:avLst/>
          </a:prstGeom>
          <a:ln w="54000">
            <a:solidFill>
              <a:srgbClr val="8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8" name=""/>
          <p:cNvCxnSpPr/>
          <p:nvPr/>
        </p:nvCxnSpPr>
        <p:spPr>
          <a:xfrm flipV="1">
            <a:off x="3124080" y="2932920"/>
            <a:ext cx="335520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9" name=""/>
          <p:cNvSpPr/>
          <p:nvPr/>
        </p:nvSpPr>
        <p:spPr>
          <a:xfrm>
            <a:off x="2437920" y="220968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637600" y="22096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romosome_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012920" y="281952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rcfeatur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3122640" y="3381480"/>
            <a:ext cx="5958720" cy="2183760"/>
            <a:chOff x="3122640" y="3381480"/>
            <a:chExt cx="5958720" cy="2183760"/>
          </a:xfrm>
        </p:grpSpPr>
        <p:sp>
          <p:nvSpPr>
            <p:cNvPr id="1193" name=""/>
            <p:cNvSpPr/>
            <p:nvPr/>
          </p:nvSpPr>
          <p:spPr>
            <a:xfrm>
              <a:off x="4191120" y="3657600"/>
              <a:ext cx="1981080" cy="0"/>
            </a:xfrm>
            <a:prstGeom prst="line">
              <a:avLst/>
            </a:prstGeom>
            <a:ln w="540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91120" y="4114800"/>
              <a:ext cx="1981080" cy="0"/>
            </a:xfrm>
            <a:prstGeom prst="line">
              <a:avLst/>
            </a:prstGeom>
            <a:ln w="540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91120" y="4572000"/>
              <a:ext cx="1981080" cy="0"/>
            </a:xfrm>
            <a:prstGeom prst="line">
              <a:avLst/>
            </a:prstGeom>
            <a:ln w="540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91120" y="5029200"/>
              <a:ext cx="1981080" cy="0"/>
            </a:xfrm>
            <a:prstGeom prst="line">
              <a:avLst/>
            </a:prstGeom>
            <a:ln w="540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7" name=""/>
            <p:cNvCxnSpPr>
              <a:stCxn id="1170" idx="4"/>
              <a:endCxn id="1193" idx="0"/>
            </p:cNvCxnSpPr>
            <p:nvPr/>
          </p:nvCxnSpPr>
          <p:spPr>
            <a:xfrm flipH="1" rot="16200000">
              <a:off x="3803400" y="3242160"/>
              <a:ext cx="11880" cy="764280"/>
            </a:xfrm>
            <a:prstGeom prst="curvedConnector5">
              <a:avLst>
                <a:gd name="adj1" fmla="val -2056250"/>
                <a:gd name="adj2" fmla="val 50000"/>
                <a:gd name="adj3" fmla="val -205625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8" name=""/>
            <p:cNvCxnSpPr>
              <a:stCxn id="1173" idx="4"/>
              <a:endCxn id="1194" idx="0"/>
            </p:cNvCxnSpPr>
            <p:nvPr/>
          </p:nvCxnSpPr>
          <p:spPr>
            <a:xfrm flipH="1" rot="16200000">
              <a:off x="3879720" y="3775320"/>
              <a:ext cx="11880" cy="612000"/>
            </a:xfrm>
            <a:prstGeom prst="curvedConnector5">
              <a:avLst>
                <a:gd name="adj1" fmla="val -2056250"/>
                <a:gd name="adj2" fmla="val 49970"/>
                <a:gd name="adj3" fmla="val -205625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9" name=""/>
            <p:cNvCxnSpPr>
              <a:stCxn id="1179" idx="4"/>
              <a:endCxn id="1195" idx="0"/>
            </p:cNvCxnSpPr>
            <p:nvPr/>
          </p:nvCxnSpPr>
          <p:spPr>
            <a:xfrm flipH="1" flipV="1" rot="5400000">
              <a:off x="3776400" y="4195080"/>
              <a:ext cx="65520" cy="764280"/>
            </a:xfrm>
            <a:prstGeom prst="curvedConnector5">
              <a:avLst>
                <a:gd name="adj1" fmla="val 353038"/>
                <a:gd name="adj2" fmla="val 50000"/>
                <a:gd name="adj3" fmla="val 35303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0" name=""/>
            <p:cNvCxnSpPr>
              <a:stCxn id="1176" idx="4"/>
              <a:endCxn id="1196" idx="0"/>
            </p:cNvCxnSpPr>
            <p:nvPr/>
          </p:nvCxnSpPr>
          <p:spPr>
            <a:xfrm flipH="1" rot="16200000">
              <a:off x="3651120" y="4461120"/>
              <a:ext cx="11880" cy="1069200"/>
            </a:xfrm>
            <a:prstGeom prst="curvedConnector5">
              <a:avLst>
                <a:gd name="adj1" fmla="val -2056250"/>
                <a:gd name="adj2" fmla="val 49983"/>
                <a:gd name="adj3" fmla="val -205625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01" name=""/>
            <p:cNvSpPr/>
            <p:nvPr/>
          </p:nvSpPr>
          <p:spPr>
            <a:xfrm>
              <a:off x="6477120" y="3505320"/>
              <a:ext cx="228600" cy="16761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931800" y="3886200"/>
              <a:ext cx="2149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hromosome_arm fe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each i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59240" y="51055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tic module design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 Mungall  (BDGP - Berkel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glei Zho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lyBase - Harv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brey de Grey (FlyBase -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Gelbart (PI, Fly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 Letovsky (FlyBase - Harv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 Curators at Cambridge and Harv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tt, Lincoln, Everybody who’s helped / com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75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78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81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84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87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90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93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94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98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86760" y="1371600"/>
            <a:ext cx="914040" cy="1523880"/>
            <a:chOff x="5486760" y="1371600"/>
            <a:chExt cx="914040" cy="1523880"/>
          </a:xfrm>
        </p:grpSpPr>
        <p:sp>
          <p:nvSpPr>
            <p:cNvPr id="102" name=""/>
            <p:cNvSpPr/>
            <p:nvPr/>
          </p:nvSpPr>
          <p:spPr>
            <a:xfrm>
              <a:off x="6009120" y="137160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09120" y="2895480"/>
              <a:ext cx="39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486760" y="1371600"/>
              <a:ext cx="52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191120" y="5867280"/>
            <a:ext cx="1827000" cy="533520"/>
            <a:chOff x="4191120" y="5867280"/>
            <a:chExt cx="1827000" cy="533520"/>
          </a:xfrm>
        </p:grpSpPr>
        <p:sp>
          <p:nvSpPr>
            <p:cNvPr id="106" name=""/>
            <p:cNvSpPr/>
            <p:nvPr/>
          </p:nvSpPr>
          <p:spPr>
            <a:xfrm>
              <a:off x="4191120" y="5867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91120" y="6400800"/>
              <a:ext cx="182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019920" y="5486400"/>
            <a:ext cx="2818800" cy="1143000"/>
            <a:chOff x="6019920" y="5486400"/>
            <a:chExt cx="2818800" cy="1143000"/>
          </a:xfrm>
        </p:grpSpPr>
        <p:sp>
          <p:nvSpPr>
            <p:cNvPr id="109" name=""/>
            <p:cNvSpPr/>
            <p:nvPr/>
          </p:nvSpPr>
          <p:spPr>
            <a:xfrm>
              <a:off x="6019920" y="5486400"/>
              <a:ext cx="2818800" cy="114300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statement_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statemen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19920" y="5486400"/>
              <a:ext cx="2818800" cy="19692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8153280" y="2743920"/>
            <a:ext cx="380880" cy="2742480"/>
            <a:chOff x="8153280" y="2743920"/>
            <a:chExt cx="380880" cy="2742480"/>
          </a:xfrm>
        </p:grpSpPr>
        <p:sp>
          <p:nvSpPr>
            <p:cNvPr id="112" name=""/>
            <p:cNvSpPr/>
            <p:nvPr/>
          </p:nvSpPr>
          <p:spPr>
            <a:xfrm flipV="1">
              <a:off x="8534160" y="2743920"/>
              <a:ext cx="0" cy="274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8153280" y="27439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86200" y="1676520"/>
            <a:ext cx="1295280" cy="457200"/>
            <a:chOff x="3886200" y="1676520"/>
            <a:chExt cx="1295280" cy="457200"/>
          </a:xfrm>
        </p:grpSpPr>
        <p:grpSp>
          <p:nvGrpSpPr>
            <p:cNvPr id="115" name=""/>
            <p:cNvGrpSpPr/>
            <p:nvPr/>
          </p:nvGrpSpPr>
          <p:grpSpPr>
            <a:xfrm>
              <a:off x="3886200" y="1676520"/>
              <a:ext cx="1293840" cy="457200"/>
              <a:chOff x="3886200" y="1676520"/>
              <a:chExt cx="1293840" cy="457200"/>
            </a:xfrm>
          </p:grpSpPr>
          <p:sp>
            <p:nvSpPr>
              <p:cNvPr id="116" name=""/>
              <p:cNvSpPr/>
              <p:nvPr/>
            </p:nvSpPr>
            <p:spPr>
              <a:xfrm>
                <a:off x="3886200" y="16765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86200" y="2133720"/>
                <a:ext cx="129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5181480" y="1676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695760" y="2133720"/>
            <a:ext cx="1752480" cy="533160"/>
          </a:xfrm>
          <a:prstGeom prst="rect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context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0" y="3277080"/>
            <a:ext cx="1827000" cy="1371240"/>
            <a:chOff x="4572000" y="3277080"/>
            <a:chExt cx="1827000" cy="1371240"/>
          </a:xfrm>
        </p:grpSpPr>
        <p:sp>
          <p:nvSpPr>
            <p:cNvPr id="121" name=""/>
            <p:cNvSpPr/>
            <p:nvPr/>
          </p:nvSpPr>
          <p:spPr>
            <a:xfrm flipV="1">
              <a:off x="4572000" y="327708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0" y="3277080"/>
              <a:ext cx="182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876920" y="3733920"/>
            <a:ext cx="1522440" cy="914400"/>
            <a:chOff x="4876920" y="3733920"/>
            <a:chExt cx="1522440" cy="914400"/>
          </a:xfrm>
        </p:grpSpPr>
        <p:sp>
          <p:nvSpPr>
            <p:cNvPr id="124" name=""/>
            <p:cNvSpPr/>
            <p:nvPr/>
          </p:nvSpPr>
          <p:spPr>
            <a:xfrm flipV="1">
              <a:off x="4876920" y="373392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6920" y="3733920"/>
              <a:ext cx="152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05520" y="3962160"/>
            <a:ext cx="1293840" cy="685800"/>
            <a:chOff x="5105520" y="3962160"/>
            <a:chExt cx="1293840" cy="685800"/>
          </a:xfrm>
        </p:grpSpPr>
        <p:sp>
          <p:nvSpPr>
            <p:cNvPr id="127" name=""/>
            <p:cNvSpPr/>
            <p:nvPr/>
          </p:nvSpPr>
          <p:spPr>
            <a:xfrm flipV="1">
              <a:off x="5105520" y="396216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05520" y="3962160"/>
              <a:ext cx="1293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400800" y="1828800"/>
            <a:ext cx="1752480" cy="2209680"/>
            <a:chOff x="6400800" y="1828800"/>
            <a:chExt cx="1752480" cy="2209680"/>
          </a:xfrm>
        </p:grpSpPr>
        <p:sp>
          <p:nvSpPr>
            <p:cNvPr id="130" name=""/>
            <p:cNvSpPr/>
            <p:nvPr/>
          </p:nvSpPr>
          <p:spPr>
            <a:xfrm>
              <a:off x="6400800" y="1828800"/>
              <a:ext cx="1752480" cy="220968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statemen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bxref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bservabl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alu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ssay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00800" y="1828800"/>
              <a:ext cx="1752480" cy="38088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267080" y="3048120"/>
            <a:ext cx="2131560" cy="1599840"/>
            <a:chOff x="4267080" y="3048120"/>
            <a:chExt cx="2131560" cy="1599840"/>
          </a:xfrm>
        </p:grpSpPr>
        <p:sp>
          <p:nvSpPr>
            <p:cNvPr id="133" name=""/>
            <p:cNvSpPr/>
            <p:nvPr/>
          </p:nvSpPr>
          <p:spPr>
            <a:xfrm flipV="1">
              <a:off x="4267080" y="3048120"/>
              <a:ext cx="0" cy="159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67080" y="3048120"/>
              <a:ext cx="213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962520" y="2666880"/>
            <a:ext cx="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553080" y="4038120"/>
            <a:ext cx="1295640" cy="381600"/>
            <a:chOff x="6553080" y="4038120"/>
            <a:chExt cx="1295640" cy="381600"/>
          </a:xfrm>
        </p:grpSpPr>
        <p:grpSp>
          <p:nvGrpSpPr>
            <p:cNvPr id="137" name=""/>
            <p:cNvGrpSpPr/>
            <p:nvPr/>
          </p:nvGrpSpPr>
          <p:grpSpPr>
            <a:xfrm>
              <a:off x="6553080" y="4038480"/>
              <a:ext cx="1294200" cy="381240"/>
              <a:chOff x="6553080" y="4038480"/>
              <a:chExt cx="1294200" cy="381240"/>
            </a:xfrm>
          </p:grpSpPr>
          <p:sp>
            <p:nvSpPr>
              <p:cNvPr id="138" name=""/>
              <p:cNvSpPr/>
              <p:nvPr/>
            </p:nvSpPr>
            <p:spPr>
              <a:xfrm>
                <a:off x="6553080" y="4038480"/>
                <a:ext cx="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53080" y="4419720"/>
                <a:ext cx="129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V="1">
              <a:off x="7848720" y="403812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324480" y="4419720"/>
            <a:ext cx="1752840" cy="533160"/>
          </a:xfrm>
          <a:prstGeom prst="rect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enstatement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18112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477120" y="228600"/>
            <a:ext cx="1752480" cy="1143000"/>
            <a:chOff x="6477120" y="228600"/>
            <a:chExt cx="1752480" cy="1143000"/>
          </a:xfrm>
        </p:grpSpPr>
        <p:sp>
          <p:nvSpPr>
            <p:cNvPr id="144" name=""/>
            <p:cNvSpPr/>
            <p:nvPr/>
          </p:nvSpPr>
          <p:spPr>
            <a:xfrm>
              <a:off x="6477120" y="228600"/>
              <a:ext cx="1752480" cy="114300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desc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7120" y="228600"/>
              <a:ext cx="1752480" cy="1965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des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5486400" y="8380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4191120" y="228600"/>
            <a:ext cx="4647600" cy="6400800"/>
            <a:chOff x="4191120" y="228600"/>
            <a:chExt cx="4647600" cy="6400800"/>
          </a:xfrm>
        </p:grpSpPr>
        <p:sp>
          <p:nvSpPr>
            <p:cNvPr id="148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4191120" y="228600"/>
              <a:ext cx="4647600" cy="6400800"/>
              <a:chOff x="4191120" y="228600"/>
              <a:chExt cx="4647600" cy="64008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5486760" y="1371600"/>
                <a:ext cx="914040" cy="1523880"/>
                <a:chOff x="5486760" y="1371600"/>
                <a:chExt cx="914040" cy="1523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009120" y="137160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009120" y="2895480"/>
                  <a:ext cx="391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5486760" y="1371600"/>
                  <a:ext cx="522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1120" y="5867280"/>
                <a:ext cx="1827000" cy="533520"/>
                <a:chOff x="4191120" y="5867280"/>
                <a:chExt cx="1827000" cy="5335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191120" y="586728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191120" y="6400800"/>
                  <a:ext cx="182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019920" y="5486400"/>
                <a:ext cx="2818800" cy="1143000"/>
                <a:chOff x="6019920" y="5486400"/>
                <a:chExt cx="2818800" cy="11430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019920" y="5486400"/>
                  <a:ext cx="2818800" cy="114300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cvterm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vterm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19920" y="5486400"/>
                  <a:ext cx="2818800" cy="19692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cvter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8153280" y="2743920"/>
                <a:ext cx="380880" cy="2742480"/>
                <a:chOff x="8153280" y="2743920"/>
                <a:chExt cx="380880" cy="2742480"/>
              </a:xfrm>
            </p:grpSpPr>
            <p:sp>
              <p:nvSpPr>
                <p:cNvPr id="161" name=""/>
                <p:cNvSpPr/>
                <p:nvPr/>
              </p:nvSpPr>
              <p:spPr>
                <a:xfrm flipV="1">
                  <a:off x="8534160" y="2743920"/>
                  <a:ext cx="0" cy="2742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8153280" y="274392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4572000" y="3277080"/>
                <a:ext cx="1827000" cy="1371240"/>
                <a:chOff x="4572000" y="3277080"/>
                <a:chExt cx="1827000" cy="1371240"/>
              </a:xfrm>
            </p:grpSpPr>
            <p:sp>
              <p:nvSpPr>
                <p:cNvPr id="164" name=""/>
                <p:cNvSpPr/>
                <p:nvPr/>
              </p:nvSpPr>
              <p:spPr>
                <a:xfrm flipV="1">
                  <a:off x="4572000" y="3277080"/>
                  <a:ext cx="0" cy="137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572000" y="3277080"/>
                  <a:ext cx="182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876920" y="3733920"/>
                <a:ext cx="1522440" cy="914400"/>
                <a:chOff x="4876920" y="3733920"/>
                <a:chExt cx="1522440" cy="91440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4876920" y="3733920"/>
                  <a:ext cx="0" cy="9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876920" y="3733920"/>
                  <a:ext cx="1522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5105520" y="3962160"/>
                <a:ext cx="1293840" cy="685800"/>
                <a:chOff x="5105520" y="3962160"/>
                <a:chExt cx="1293840" cy="685800"/>
              </a:xfrm>
            </p:grpSpPr>
            <p:sp>
              <p:nvSpPr>
                <p:cNvPr id="170" name=""/>
                <p:cNvSpPr/>
                <p:nvPr/>
              </p:nvSpPr>
              <p:spPr>
                <a:xfrm flipV="1">
                  <a:off x="5105520" y="396216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105520" y="3962160"/>
                  <a:ext cx="1293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400800" y="1828800"/>
                <a:ext cx="1752480" cy="2209680"/>
                <a:chOff x="6400800" y="1828800"/>
                <a:chExt cx="1752480" cy="22096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400800" y="1828800"/>
                  <a:ext cx="1752480" cy="220968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contex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bxref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observable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ttr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alu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value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ssay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400800" y="1828800"/>
                  <a:ext cx="1752480" cy="38088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267080" y="3048120"/>
                <a:ext cx="2131560" cy="1599840"/>
                <a:chOff x="4267080" y="3048120"/>
                <a:chExt cx="2131560" cy="1599840"/>
              </a:xfrm>
            </p:grpSpPr>
            <p:sp>
              <p:nvSpPr>
                <p:cNvPr id="176" name=""/>
                <p:cNvSpPr/>
                <p:nvPr/>
              </p:nvSpPr>
              <p:spPr>
                <a:xfrm flipV="1">
                  <a:off x="4267080" y="3048120"/>
                  <a:ext cx="0" cy="159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267080" y="3048120"/>
                  <a:ext cx="213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6553080" y="4038120"/>
                <a:ext cx="1295640" cy="381600"/>
                <a:chOff x="6553080" y="4038120"/>
                <a:chExt cx="1295640" cy="381600"/>
              </a:xfrm>
            </p:grpSpPr>
            <p:grpSp>
              <p:nvGrpSpPr>
                <p:cNvPr id="179" name=""/>
                <p:cNvGrpSpPr/>
                <p:nvPr/>
              </p:nvGrpSpPr>
              <p:grpSpPr>
                <a:xfrm>
                  <a:off x="6553080" y="4038480"/>
                  <a:ext cx="1294200" cy="381240"/>
                  <a:chOff x="6553080" y="4038480"/>
                  <a:chExt cx="1294200" cy="38124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6553080" y="4038480"/>
                    <a:ext cx="0" cy="38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6553080" y="4419720"/>
                    <a:ext cx="1294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 flipV="1">
                  <a:off x="7848720" y="403812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6324480" y="4419720"/>
                <a:ext cx="1752840" cy="533160"/>
              </a:xfrm>
              <a:prstGeom prst="rect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lationshi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6477120" y="228600"/>
                <a:ext cx="1752480" cy="1143000"/>
                <a:chOff x="6477120" y="228600"/>
                <a:chExt cx="1752480" cy="11430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477120" y="228600"/>
                  <a:ext cx="1752480" cy="114300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desc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contex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477120" y="228600"/>
                  <a:ext cx="1752480" cy="19656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de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 flipH="1">
                <a:off x="5486400" y="838080"/>
                <a:ext cx="99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189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192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195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198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201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204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207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212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695760" y="1676520"/>
            <a:ext cx="1752480" cy="2971800"/>
            <a:chOff x="3695760" y="1676520"/>
            <a:chExt cx="1752480" cy="2971800"/>
          </a:xfrm>
        </p:grpSpPr>
        <p:sp>
          <p:nvSpPr>
            <p:cNvPr id="216" name=""/>
            <p:cNvSpPr/>
            <p:nvPr/>
          </p:nvSpPr>
          <p:spPr>
            <a:xfrm>
              <a:off x="3695760" y="2133720"/>
              <a:ext cx="175248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886200" y="1676520"/>
              <a:ext cx="1295280" cy="457200"/>
              <a:chOff x="3886200" y="1676520"/>
              <a:chExt cx="1295280" cy="4572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3886200" y="1676520"/>
                <a:ext cx="1293840" cy="457200"/>
                <a:chOff x="3886200" y="1676520"/>
                <a:chExt cx="1293840" cy="4572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886200" y="167652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86200" y="2133720"/>
                  <a:ext cx="1293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" name=""/>
              <p:cNvSpPr/>
              <p:nvPr/>
            </p:nvSpPr>
            <p:spPr>
              <a:xfrm flipV="1">
                <a:off x="5181480" y="16765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962520" y="2666880"/>
              <a:ext cx="0" cy="198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224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227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230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233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236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239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242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247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219320" y="2209680"/>
            <a:ext cx="7951680" cy="1922760"/>
            <a:chOff x="1219320" y="2209680"/>
            <a:chExt cx="7951680" cy="1922760"/>
          </a:xfrm>
        </p:grpSpPr>
        <p:sp>
          <p:nvSpPr>
            <p:cNvPr id="251" name=""/>
            <p:cNvSpPr/>
            <p:nvPr/>
          </p:nvSpPr>
          <p:spPr>
            <a:xfrm>
              <a:off x="1219320" y="3429000"/>
              <a:ext cx="1904760" cy="380880"/>
            </a:xfrm>
            <a:prstGeom prst="rect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03640" y="2209680"/>
              <a:ext cx="50673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can be used for n-ploid organism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can be used for distinguishi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romosomal grou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254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257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260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263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266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269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272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273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277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002640" y="365040"/>
            <a:ext cx="224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 G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ka: alle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2590920"/>
            <a:ext cx="914400" cy="53316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3733920"/>
            <a:ext cx="914400" cy="53316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5880" y="4800600"/>
            <a:ext cx="190512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1" idx="4"/>
            <a:endCxn id="282" idx="0"/>
          </p:cNvCxnSpPr>
          <p:nvPr/>
        </p:nvCxnSpPr>
        <p:spPr>
          <a:xfrm>
            <a:off x="7009920" y="312408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" name=""/>
          <p:cNvCxnSpPr>
            <a:stCxn id="282" idx="4"/>
            <a:endCxn id="283" idx="0"/>
          </p:cNvCxnSpPr>
          <p:nvPr/>
        </p:nvCxnSpPr>
        <p:spPr>
          <a:xfrm flipH="1" rot="16200000">
            <a:off x="6762600" y="4514400"/>
            <a:ext cx="534240" cy="38880"/>
          </a:xfrm>
          <a:prstGeom prst="curvedConnector5">
            <a:avLst>
              <a:gd name="adj1" fmla="val 49966"/>
              <a:gd name="adj2" fmla="val 49532"/>
              <a:gd name="adj3" fmla="val 499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7466400" y="373392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288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291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294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297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300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303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306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307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311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002640" y="365040"/>
            <a:ext cx="307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Stock G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[2]/T(Y;2)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15000" y="25146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391520" y="25146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(Y;2)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1500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9152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4800600"/>
            <a:ext cx="190512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[2]/T(Y;2)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315" idx="4"/>
            <a:endCxn id="317" idx="0"/>
          </p:cNvCxnSpPr>
          <p:nvPr/>
        </p:nvCxnSpPr>
        <p:spPr>
          <a:xfrm>
            <a:off x="6171840" y="30477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316" idx="4"/>
            <a:endCxn id="318" idx="0"/>
          </p:cNvCxnSpPr>
          <p:nvPr/>
        </p:nvCxnSpPr>
        <p:spPr>
          <a:xfrm>
            <a:off x="7848360" y="30477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317" idx="4"/>
            <a:endCxn id="319" idx="0"/>
          </p:cNvCxnSpPr>
          <p:nvPr/>
        </p:nvCxnSpPr>
        <p:spPr>
          <a:xfrm flipH="1" rot="16200000">
            <a:off x="6305400" y="4057200"/>
            <a:ext cx="610200" cy="87696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8" idx="4"/>
            <a:endCxn id="319" idx="0"/>
          </p:cNvCxnSpPr>
          <p:nvPr/>
        </p:nvCxnSpPr>
        <p:spPr>
          <a:xfrm rot="5400000">
            <a:off x="7143120" y="4095360"/>
            <a:ext cx="610200" cy="801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4875480" y="380988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76040" y="373392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327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330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333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336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339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342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345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346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350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5563800" y="380880"/>
            <a:ext cx="34041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Genotype 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{hsFLP}1, w[1118]; Adv[1]/C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43400" y="22860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{hsFLP}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01000" y="22860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00100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638680" y="4876920"/>
            <a:ext cx="1905120" cy="53316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{hsFLP}1, w[1118]; Adv[1]/C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4" idx="4"/>
            <a:endCxn id="356" idx="0"/>
          </p:cNvCxnSpPr>
          <p:nvPr/>
        </p:nvCxnSpPr>
        <p:spPr>
          <a:xfrm>
            <a:off x="4800240" y="28195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55" idx="4"/>
            <a:endCxn id="357" idx="0"/>
          </p:cNvCxnSpPr>
          <p:nvPr/>
        </p:nvCxnSpPr>
        <p:spPr>
          <a:xfrm>
            <a:off x="8457840" y="28195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6" idx="4"/>
            <a:endCxn id="358" idx="0"/>
          </p:cNvCxnSpPr>
          <p:nvPr/>
        </p:nvCxnSpPr>
        <p:spPr>
          <a:xfrm flipH="1" rot="16200000">
            <a:off x="5352840" y="3638160"/>
            <a:ext cx="686520" cy="17913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57" idx="4"/>
            <a:endCxn id="358" idx="0"/>
          </p:cNvCxnSpPr>
          <p:nvPr/>
        </p:nvCxnSpPr>
        <p:spPr>
          <a:xfrm rot="5400000">
            <a:off x="7181280" y="3600360"/>
            <a:ext cx="686520" cy="186768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3503880" y="396252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276040" y="419112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8640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22860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[111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705720" y="2286000"/>
            <a:ext cx="914400" cy="1905120"/>
            <a:chOff x="6705720" y="2286000"/>
            <a:chExt cx="914400" cy="1905120"/>
          </a:xfrm>
        </p:grpSpPr>
        <p:sp>
          <p:nvSpPr>
            <p:cNvPr id="368" name=""/>
            <p:cNvSpPr/>
            <p:nvPr/>
          </p:nvSpPr>
          <p:spPr>
            <a:xfrm>
              <a:off x="6705720" y="3657600"/>
              <a:ext cx="914400" cy="533520"/>
            </a:xfrm>
            <a:prstGeom prst="ellipse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_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705720" y="2286000"/>
              <a:ext cx="914400" cy="53352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v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0" name=""/>
            <p:cNvCxnSpPr>
              <a:stCxn id="369" idx="4"/>
              <a:endCxn id="368" idx="0"/>
            </p:cNvCxnSpPr>
            <p:nvPr/>
          </p:nvCxnSpPr>
          <p:spPr>
            <a:xfrm>
              <a:off x="7162560" y="2819520"/>
              <a:ext cx="1080" cy="83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371" name=""/>
          <p:cNvCxnSpPr>
            <a:stCxn id="366" idx="4"/>
            <a:endCxn id="365" idx="0"/>
          </p:cNvCxnSpPr>
          <p:nvPr/>
        </p:nvCxnSpPr>
        <p:spPr>
          <a:xfrm>
            <a:off x="5943240" y="28195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2" name=""/>
          <p:cNvSpPr/>
          <p:nvPr/>
        </p:nvSpPr>
        <p:spPr>
          <a:xfrm>
            <a:off x="5866200" y="317016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85520" y="317016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5" idx="4"/>
            <a:endCxn id="358" idx="0"/>
          </p:cNvCxnSpPr>
          <p:nvPr/>
        </p:nvCxnSpPr>
        <p:spPr>
          <a:xfrm flipH="1" rot="16200000">
            <a:off x="5923440" y="4209840"/>
            <a:ext cx="68652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8" idx="4"/>
            <a:endCxn id="358" idx="0"/>
          </p:cNvCxnSpPr>
          <p:nvPr/>
        </p:nvCxnSpPr>
        <p:spPr>
          <a:xfrm rot="5400000">
            <a:off x="6533640" y="4248000"/>
            <a:ext cx="686520" cy="57240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380880" y="228600"/>
            <a:ext cx="5067360" cy="5638680"/>
            <a:chOff x="380880" y="228600"/>
            <a:chExt cx="5067360" cy="5638680"/>
          </a:xfrm>
        </p:grpSpPr>
        <p:grpSp>
          <p:nvGrpSpPr>
            <p:cNvPr id="377" name=""/>
            <p:cNvGrpSpPr/>
            <p:nvPr/>
          </p:nvGrpSpPr>
          <p:grpSpPr>
            <a:xfrm>
              <a:off x="380880" y="228600"/>
              <a:ext cx="1600200" cy="1219320"/>
              <a:chOff x="380880" y="228600"/>
              <a:chExt cx="1600200" cy="1219320"/>
            </a:xfrm>
          </p:grpSpPr>
          <p:sp>
            <p:nvSpPr>
              <p:cNvPr id="378" name=""/>
              <p:cNvSpPr/>
              <p:nvPr/>
            </p:nvSpPr>
            <p:spPr>
              <a:xfrm>
                <a:off x="380880" y="228600"/>
                <a:ext cx="1600200" cy="121932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0880" y="228600"/>
                <a:ext cx="1600200" cy="20988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1219320" y="1981080"/>
              <a:ext cx="1904400" cy="2209680"/>
              <a:chOff x="1219320" y="1981080"/>
              <a:chExt cx="1904400" cy="2209680"/>
            </a:xfrm>
          </p:grpSpPr>
          <p:sp>
            <p:nvSpPr>
              <p:cNvPr id="381" name=""/>
              <p:cNvSpPr/>
              <p:nvPr/>
            </p:nvSpPr>
            <p:spPr>
              <a:xfrm>
                <a:off x="1219320" y="1981080"/>
                <a:ext cx="190440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hromosom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219320" y="1981080"/>
                <a:ext cx="190440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_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384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387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914400" y="1447920"/>
              <a:ext cx="304920" cy="1371240"/>
              <a:chOff x="914400" y="1447920"/>
              <a:chExt cx="304920" cy="1371240"/>
            </a:xfrm>
          </p:grpSpPr>
          <p:sp>
            <p:nvSpPr>
              <p:cNvPr id="390" name=""/>
              <p:cNvSpPr/>
              <p:nvPr/>
            </p:nvSpPr>
            <p:spPr>
              <a:xfrm>
                <a:off x="914400" y="144792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914400" y="281916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685800" y="1447920"/>
              <a:ext cx="533160" cy="1828440"/>
              <a:chOff x="685800" y="1447920"/>
              <a:chExt cx="533160" cy="1828440"/>
            </a:xfrm>
          </p:grpSpPr>
          <p:sp>
            <p:nvSpPr>
              <p:cNvPr id="393" name=""/>
              <p:cNvSpPr/>
              <p:nvPr/>
            </p:nvSpPr>
            <p:spPr>
              <a:xfrm>
                <a:off x="685800" y="1447920"/>
                <a:ext cx="0" cy="1828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5800" y="3276360"/>
                <a:ext cx="5331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609480" y="3962520"/>
              <a:ext cx="3353040" cy="990000"/>
              <a:chOff x="609480" y="3962520"/>
              <a:chExt cx="3353040" cy="99000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610200" y="3963600"/>
                <a:ext cx="3352320" cy="988920"/>
                <a:chOff x="610200" y="3963600"/>
                <a:chExt cx="3352320" cy="988920"/>
              </a:xfrm>
            </p:grpSpPr>
            <p:sp>
              <p:nvSpPr>
                <p:cNvPr id="397" name=""/>
                <p:cNvSpPr/>
                <p:nvPr/>
              </p:nvSpPr>
              <p:spPr>
                <a:xfrm flipH="1">
                  <a:off x="610200" y="4952520"/>
                  <a:ext cx="33523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610200" y="3963600"/>
                  <a:ext cx="0" cy="988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609480" y="396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3123720" y="838080"/>
              <a:ext cx="533880" cy="2286000"/>
              <a:chOff x="3123720" y="838080"/>
              <a:chExt cx="533880" cy="2286000"/>
            </a:xfrm>
          </p:grpSpPr>
          <p:sp>
            <p:nvSpPr>
              <p:cNvPr id="401" name=""/>
              <p:cNvSpPr/>
              <p:nvPr/>
            </p:nvSpPr>
            <p:spPr>
              <a:xfrm>
                <a:off x="3352680" y="838080"/>
                <a:ext cx="0" cy="2286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3123720" y="312408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2680" y="83808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3123000" y="228600"/>
            <a:ext cx="6478200" cy="5181480"/>
            <a:chOff x="3123000" y="228600"/>
            <a:chExt cx="6478200" cy="5181480"/>
          </a:xfrm>
        </p:grpSpPr>
        <p:sp>
          <p:nvSpPr>
            <p:cNvPr id="405" name=""/>
            <p:cNvSpPr/>
            <p:nvPr/>
          </p:nvSpPr>
          <p:spPr>
            <a:xfrm>
              <a:off x="8276040" y="3170160"/>
              <a:ext cx="86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3123000" y="228600"/>
              <a:ext cx="6478200" cy="5181480"/>
              <a:chOff x="3123000" y="228600"/>
              <a:chExt cx="6478200" cy="5181480"/>
            </a:xfrm>
          </p:grpSpPr>
          <p:sp>
            <p:nvSpPr>
              <p:cNvPr id="407" name=""/>
              <p:cNvSpPr/>
              <p:nvPr/>
            </p:nvSpPr>
            <p:spPr>
              <a:xfrm>
                <a:off x="5486400" y="228600"/>
                <a:ext cx="4114800" cy="97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ock Genotype II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t[13z]/Dp(1;2;Y)w[+]/C(1)DX, y[1] f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001000" y="2286000"/>
                <a:ext cx="914400" cy="533520"/>
              </a:xfrm>
              <a:prstGeom prst="ellipse">
                <a:avLst/>
              </a:prstGeom>
              <a:solidFill>
                <a:srgbClr val="008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[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01000" y="3657600"/>
                <a:ext cx="914400" cy="533520"/>
              </a:xfrm>
              <a:prstGeom prst="ellipse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_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638680" y="4876920"/>
                <a:ext cx="1905120" cy="533160"/>
              </a:xfrm>
              <a:prstGeom prst="ellipse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t[13z]/Dp(1;2;Y)w[+]/C(1)DX,y[1] f[1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1" name=""/>
              <p:cNvCxnSpPr>
                <a:stCxn id="408" idx="4"/>
                <a:endCxn id="409" idx="0"/>
              </p:cNvCxnSpPr>
              <p:nvPr/>
            </p:nvCxnSpPr>
            <p:spPr>
              <a:xfrm>
                <a:off x="8457840" y="2819520"/>
                <a:ext cx="1080" cy="838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2" name=""/>
              <p:cNvCxnSpPr>
                <a:stCxn id="413" idx="4"/>
                <a:endCxn id="410" idx="0"/>
              </p:cNvCxnSpPr>
              <p:nvPr/>
            </p:nvCxnSpPr>
            <p:spPr>
              <a:xfrm flipH="1" rot="16200000">
                <a:off x="5009040" y="3295440"/>
                <a:ext cx="686520" cy="247716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4" name=""/>
              <p:cNvCxnSpPr>
                <a:stCxn id="409" idx="4"/>
                <a:endCxn id="410" idx="0"/>
              </p:cNvCxnSpPr>
              <p:nvPr/>
            </p:nvCxnSpPr>
            <p:spPr>
              <a:xfrm rot="5400000">
                <a:off x="7181280" y="3600360"/>
                <a:ext cx="686520" cy="1867680"/>
              </a:xfrm>
              <a:prstGeom prst="curvedConnector5">
                <a:avLst>
                  <a:gd name="adj1" fmla="val 50000"/>
                  <a:gd name="adj2" fmla="val 49990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15" name=""/>
              <p:cNvGrpSpPr/>
              <p:nvPr/>
            </p:nvGrpSpPr>
            <p:grpSpPr>
              <a:xfrm>
                <a:off x="3657600" y="2286000"/>
                <a:ext cx="914400" cy="1905120"/>
                <a:chOff x="3657600" y="2286000"/>
                <a:chExt cx="914400" cy="19051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657600" y="2286000"/>
                  <a:ext cx="914400" cy="533520"/>
                </a:xfrm>
                <a:prstGeom prst="ellipse">
                  <a:avLst/>
                </a:prstGeom>
                <a:solidFill>
                  <a:srgbClr val="008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t[13z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657600" y="3657600"/>
                  <a:ext cx="914400" cy="533520"/>
                </a:xfrm>
                <a:prstGeom prst="ellipse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_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17" name=""/>
                <p:cNvCxnSpPr>
                  <a:stCxn id="416" idx="4"/>
                  <a:endCxn id="413" idx="0"/>
                </p:cNvCxnSpPr>
                <p:nvPr/>
              </p:nvCxnSpPr>
              <p:spPr>
                <a:xfrm>
                  <a:off x="4114440" y="2819520"/>
                  <a:ext cx="1080" cy="838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418" name=""/>
              <p:cNvSpPr/>
              <p:nvPr/>
            </p:nvSpPr>
            <p:spPr>
              <a:xfrm>
                <a:off x="3123000" y="4038480"/>
                <a:ext cx="869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6934320" y="2286000"/>
                <a:ext cx="914400" cy="1905120"/>
                <a:chOff x="6934320" y="2286000"/>
                <a:chExt cx="914400" cy="190512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6934320" y="3657600"/>
                  <a:ext cx="914400" cy="533520"/>
                </a:xfrm>
                <a:prstGeom prst="ellipse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_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34320" y="2286000"/>
                  <a:ext cx="914400" cy="533520"/>
                </a:xfrm>
                <a:prstGeom prst="ellipse">
                  <a:avLst/>
                </a:prstGeom>
                <a:solidFill>
                  <a:srgbClr val="008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y[1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22" name=""/>
                <p:cNvCxnSpPr>
                  <a:stCxn id="421" idx="4"/>
                  <a:endCxn id="420" idx="0"/>
                </p:cNvCxnSpPr>
                <p:nvPr/>
              </p:nvCxnSpPr>
              <p:spPr>
                <a:xfrm>
                  <a:off x="7391160" y="2819520"/>
                  <a:ext cx="1080" cy="838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423" name=""/>
              <p:cNvSpPr/>
              <p:nvPr/>
            </p:nvSpPr>
            <p:spPr>
              <a:xfrm>
                <a:off x="5867280" y="3657600"/>
                <a:ext cx="914400" cy="533520"/>
              </a:xfrm>
              <a:prstGeom prst="ellipse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_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867280" y="2286000"/>
                <a:ext cx="914400" cy="533520"/>
              </a:xfrm>
              <a:prstGeom prst="ellipse">
                <a:avLst/>
              </a:prstGeom>
              <a:solidFill>
                <a:srgbClr val="008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(1)D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5" name=""/>
              <p:cNvCxnSpPr>
                <a:stCxn id="424" idx="4"/>
                <a:endCxn id="423" idx="0"/>
              </p:cNvCxnSpPr>
              <p:nvPr/>
            </p:nvCxnSpPr>
            <p:spPr>
              <a:xfrm>
                <a:off x="6324120" y="2819520"/>
                <a:ext cx="1080" cy="838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26" name=""/>
              <p:cNvSpPr/>
              <p:nvPr/>
            </p:nvSpPr>
            <p:spPr>
              <a:xfrm>
                <a:off x="5713920" y="3170160"/>
                <a:ext cx="869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=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237800" y="3170160"/>
                <a:ext cx="869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8" name=""/>
              <p:cNvCxnSpPr>
                <a:stCxn id="423" idx="4"/>
                <a:endCxn id="410" idx="0"/>
              </p:cNvCxnSpPr>
              <p:nvPr/>
            </p:nvCxnSpPr>
            <p:spPr>
              <a:xfrm flipH="1" rot="16200000">
                <a:off x="6113520" y="4400280"/>
                <a:ext cx="686520" cy="267120"/>
              </a:xfrm>
              <a:prstGeom prst="curvedConnector5">
                <a:avLst>
                  <a:gd name="adj1" fmla="val 50000"/>
                  <a:gd name="adj2" fmla="val 49932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9" name=""/>
              <p:cNvCxnSpPr>
                <a:stCxn id="420" idx="4"/>
                <a:endCxn id="410" idx="0"/>
              </p:cNvCxnSpPr>
              <p:nvPr/>
            </p:nvCxnSpPr>
            <p:spPr>
              <a:xfrm rot="5400000">
                <a:off x="6647760" y="4133520"/>
                <a:ext cx="686520" cy="80100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0" name=""/>
              <p:cNvSpPr/>
              <p:nvPr/>
            </p:nvSpPr>
            <p:spPr>
              <a:xfrm>
                <a:off x="4724280" y="2286000"/>
                <a:ext cx="914400" cy="533520"/>
              </a:xfrm>
              <a:prstGeom prst="ellipse">
                <a:avLst/>
              </a:prstGeom>
              <a:solidFill>
                <a:srgbClr val="008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p(1;2;Y)w[+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24280" y="3657600"/>
                <a:ext cx="914400" cy="533520"/>
              </a:xfrm>
              <a:prstGeom prst="ellipse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_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2" name=""/>
              <p:cNvCxnSpPr>
                <a:stCxn id="430" idx="4"/>
                <a:endCxn id="431" idx="0"/>
              </p:cNvCxnSpPr>
              <p:nvPr/>
            </p:nvCxnSpPr>
            <p:spPr>
              <a:xfrm>
                <a:off x="5181120" y="2819520"/>
                <a:ext cx="1080" cy="838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3" name=""/>
              <p:cNvSpPr/>
              <p:nvPr/>
            </p:nvSpPr>
            <p:spPr>
              <a:xfrm>
                <a:off x="4570920" y="2911320"/>
                <a:ext cx="869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=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4" name=""/>
              <p:cNvCxnSpPr>
                <a:stCxn id="431" idx="4"/>
                <a:endCxn id="410" idx="0"/>
              </p:cNvCxnSpPr>
              <p:nvPr/>
            </p:nvCxnSpPr>
            <p:spPr>
              <a:xfrm flipH="1" rot="16200000">
                <a:off x="5543280" y="3828600"/>
                <a:ext cx="686520" cy="1410480"/>
              </a:xfrm>
              <a:prstGeom prst="curvedConnector5">
                <a:avLst>
                  <a:gd name="adj1" fmla="val 50000"/>
                  <a:gd name="adj2" fmla="val 49987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1:19:00Z</dcterms:created>
  <dc:creator>William M. Gelbart</dc:creator>
  <dc:description/>
  <dc:language>en-US</dc:language>
  <cp:lastModifiedBy>William M. Gelbart</cp:lastModifiedBy>
  <dcterms:modified xsi:type="dcterms:W3CDTF">2004-04-26T20:26:57Z</dcterms:modified>
  <cp:revision>76</cp:revision>
  <dc:subject/>
  <dc:title>The   chado genetics module</dc:title>
</cp:coreProperties>
</file>